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hyperlink" Target="http://www.forbio-project.e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hyperlink" Target="mailto:polbiom@poczta.onet.pl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Kép 35" descr="euflag.eps"/>
          <p:cNvPicPr/>
          <p:nvPr/>
        </p:nvPicPr>
        <p:blipFill>
          <a:blip r:embed="rId2"/>
          <a:stretch/>
        </p:blipFill>
        <p:spPr>
          <a:xfrm>
            <a:off x="4038480" y="9178920"/>
            <a:ext cx="505080" cy="341280"/>
          </a:xfrm>
          <a:prstGeom prst="rect">
            <a:avLst/>
          </a:prstGeom>
          <a:ln w="0">
            <a:noFill/>
          </a:ln>
        </p:spPr>
      </p:pic>
      <p:sp>
        <p:nvSpPr>
          <p:cNvPr id="1" name="Szövegdoboz 39"/>
          <p:cNvSpPr/>
          <p:nvPr/>
        </p:nvSpPr>
        <p:spPr>
          <a:xfrm>
            <a:off x="4602240" y="9183600"/>
            <a:ext cx="2106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10440" bIns="10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700" spc="-1" strike="noStrike">
                <a:solidFill>
                  <a:srgbClr val="5a5a55"/>
                </a:solidFill>
                <a:latin typeface="Calibri Light"/>
              </a:rPr>
              <a:t>This project has received funding from the European Union's Horizon 2020 research and innovation programme under grant agreement No691846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2" name="Text Box 262"/>
          <p:cNvSpPr/>
          <p:nvPr/>
        </p:nvSpPr>
        <p:spPr>
          <a:xfrm>
            <a:off x="139680" y="8980560"/>
            <a:ext cx="17445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788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hu-HU" sz="800" spc="-1" strike="noStrike">
                <a:solidFill>
                  <a:srgbClr val="5a5a55"/>
                </a:solidFill>
                <a:latin typeface="Calibri Light"/>
              </a:rPr>
              <a:t>COORDINATOR:</a:t>
            </a:r>
            <a:endParaRPr b="0" lang="en-US" sz="8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hu-HU" sz="700" spc="-1" strike="noStrike">
                <a:solidFill>
                  <a:srgbClr val="5a5a55"/>
                </a:solidFill>
                <a:latin typeface="Calibri Light"/>
              </a:rPr>
              <a:t>WIP RENEWABLE ENERGIES</a:t>
            </a:r>
            <a:br>
              <a:rPr sz="1200"/>
            </a:br>
            <a:r>
              <a:rPr b="0" lang="hu-HU" sz="600" spc="-1" strike="noStrike">
                <a:solidFill>
                  <a:srgbClr val="5a5a55"/>
                </a:solidFill>
                <a:latin typeface="Calibri Light"/>
              </a:rPr>
              <a:t>Dr. Rainer Janssen</a:t>
            </a:r>
            <a:br>
              <a:rPr sz="600"/>
            </a:br>
            <a:r>
              <a:rPr b="0" lang="hu-HU" sz="600" spc="-1" strike="noStrike">
                <a:solidFill>
                  <a:srgbClr val="5a5a55"/>
                </a:solidFill>
                <a:latin typeface="Calibri Light"/>
              </a:rPr>
              <a:t>Head of Unit Biomass Department</a:t>
            </a:r>
            <a:br>
              <a:rPr sz="600"/>
            </a:br>
            <a:r>
              <a:rPr b="0" lang="hu-HU" sz="600" spc="-1" strike="noStrike">
                <a:solidFill>
                  <a:srgbClr val="5a5a55"/>
                </a:solidFill>
                <a:latin typeface="Calibri Light"/>
              </a:rPr>
              <a:t>Sylvensteinstr. 2, D-81369 Muenchen, Germany</a:t>
            </a:r>
            <a:endParaRPr b="0" lang="en-US" sz="6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3" name="Text Box 274"/>
          <p:cNvSpPr/>
          <p:nvPr/>
        </p:nvSpPr>
        <p:spPr>
          <a:xfrm>
            <a:off x="1028880" y="9271080"/>
            <a:ext cx="1650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76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19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4" name="Téglalap 17"/>
          <p:cNvSpPr/>
          <p:nvPr/>
        </p:nvSpPr>
        <p:spPr>
          <a:xfrm>
            <a:off x="0" y="876240"/>
            <a:ext cx="6858000" cy="8043840"/>
          </a:xfrm>
          <a:prstGeom prst="rect">
            <a:avLst/>
          </a:prstGeom>
          <a:solidFill>
            <a:srgbClr val="88b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5" name="Text Placeholder 3"/>
          <p:cNvSpPr/>
          <p:nvPr/>
        </p:nvSpPr>
        <p:spPr>
          <a:xfrm>
            <a:off x="1889280" y="9231480"/>
            <a:ext cx="158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480" tIns="51480" bIns="51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64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hu-HU" sz="800" spc="-1" strike="noStrike">
                <a:solidFill>
                  <a:srgbClr val="5a5a55"/>
                </a:solidFill>
                <a:latin typeface="Calibri Light"/>
              </a:rPr>
              <a:t>FOR MORE INFORMATION VISIT</a:t>
            </a:r>
            <a:endParaRPr b="0" lang="en-US" sz="8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64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hu-HU" sz="800" spc="-1" strike="noStrike" u="sng">
                <a:solidFill>
                  <a:srgbClr val="ff6b2b"/>
                </a:solidFill>
                <a:uFillTx/>
                <a:latin typeface="Calibri Light"/>
                <a:hlinkClick r:id="rId3"/>
              </a:rPr>
              <a:t>www.forbio-project.eu</a:t>
            </a:r>
            <a:r>
              <a:rPr b="0" lang="hu-HU" sz="800" spc="-1" strike="noStrike">
                <a:solidFill>
                  <a:srgbClr val="5a5a55"/>
                </a:solidFill>
                <a:latin typeface="Calibri Light"/>
              </a:rPr>
              <a:t> </a:t>
            </a:r>
            <a:endParaRPr b="0" lang="en-US" sz="800" spc="-1" strike="noStrike">
              <a:solidFill>
                <a:srgbClr val="5a5a55"/>
              </a:solidFill>
              <a:latin typeface="Arial"/>
            </a:endParaRPr>
          </a:p>
        </p:txBody>
      </p:sp>
      <p:pic>
        <p:nvPicPr>
          <p:cNvPr id="6" name="Kép 29" descr="forbio_logo-01.jpg"/>
          <p:cNvPicPr/>
          <p:nvPr/>
        </p:nvPicPr>
        <p:blipFill>
          <a:blip r:embed="rId4"/>
          <a:stretch/>
        </p:blipFill>
        <p:spPr>
          <a:xfrm>
            <a:off x="139680" y="138240"/>
            <a:ext cx="2289240" cy="738000"/>
          </a:xfrm>
          <a:prstGeom prst="rect">
            <a:avLst/>
          </a:prstGeom>
          <a:ln w="0">
            <a:noFill/>
          </a:ln>
        </p:spPr>
      </p:pic>
      <p:sp>
        <p:nvSpPr>
          <p:cNvPr id="7" name="Szövegdoboz 30"/>
          <p:cNvSpPr/>
          <p:nvPr/>
        </p:nvSpPr>
        <p:spPr>
          <a:xfrm>
            <a:off x="2265480" y="328680"/>
            <a:ext cx="4443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10440" bIns="10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000" spc="-1" strike="noStrike">
                <a:solidFill>
                  <a:srgbClr val="5a5a55"/>
                </a:solidFill>
                <a:latin typeface="Calibri"/>
              </a:rPr>
              <a:t>Fostering Sustainable Feedstock Production for </a:t>
            </a:r>
            <a:br>
              <a:rPr sz="1000"/>
            </a:br>
            <a:r>
              <a:rPr b="1" lang="en-US" sz="1000" spc="-1" strike="noStrike">
                <a:solidFill>
                  <a:srgbClr val="5a5a55"/>
                </a:solidFill>
                <a:latin typeface="Calibri"/>
              </a:rPr>
              <a:t>Advanced Biofuels on underutilised land in Europe</a:t>
            </a:r>
            <a:endParaRPr b="0" lang="en-US" sz="10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8" name="Szöveg helye 5"/>
          <p:cNvSpPr/>
          <p:nvPr/>
        </p:nvSpPr>
        <p:spPr>
          <a:xfrm>
            <a:off x="0" y="8748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10440" bIns="10440" anchor="t">
            <a:noAutofit/>
          </a:bodyPr>
          <a:p>
            <a:pPr marL="369720" indent="-3697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2200" spc="-1" strike="noStrike">
                <a:solidFill>
                  <a:srgbClr val="5a5a55"/>
                </a:solidFill>
                <a:latin typeface="Calibri"/>
              </a:rPr>
              <a:t>Promowanie zrównoważonej produkcji surowców dla zaawansowanych biopaliw na gruntach niewykorzystanych rolniczo w Europie</a:t>
            </a:r>
            <a:endParaRPr b="0" lang="en-US" sz="22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9" name="Szöveg helye 4"/>
          <p:cNvSpPr/>
          <p:nvPr/>
        </p:nvSpPr>
        <p:spPr>
          <a:xfrm>
            <a:off x="41400" y="1889280"/>
            <a:ext cx="68580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10440" bIns="10440" anchor="t">
            <a:noAutofit/>
          </a:bodyPr>
          <a:p>
            <a:pPr marL="369720" indent="-36972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hu-HU" sz="1500" spc="-1" strike="noStrike">
                <a:solidFill>
                  <a:srgbClr val="5a5a55"/>
                </a:solidFill>
                <a:latin typeface="Calibri"/>
              </a:rPr>
              <a:t>Anna Grzybek, Marek Hryniewicz</a:t>
            </a:r>
            <a:endParaRPr b="0" lang="en-US" sz="15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10" name="Text Placeholder 3"/>
          <p:cNvSpPr/>
          <p:nvPr/>
        </p:nvSpPr>
        <p:spPr>
          <a:xfrm>
            <a:off x="136440" y="2540160"/>
            <a:ext cx="6572160" cy="287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Istota projektu</a:t>
            </a:r>
            <a:br>
              <a:rPr sz="700"/>
            </a:b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Projekt FORBIO zademonstruje rentowność użycia ziemi w państwach UE dla wytwarzania surowców do produkcji bioenergii bez konkurencji z produkcją żywności oraz bez wykorzystywania gruntów obecnie użytkowanych do celów rekreacyjnych lub ochrony środowiska. Rozwinie </a:t>
            </a: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metodę oceny potencjału produkcji bioenergii z surowców wyprodukowanych na dostępnych gruntach niewykorzystywanych rolniczo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(zanieczyszczonych, ugorach, itp.) na poziomie krajowym i lokalnym. W tym kontekście będą opracowane  studia wykonalności w trzech państwach (Włoszech, Niemczech i Ukrainie). Ustalone zostaną podstawy  do budowy lokalnych łańcuchów produkcji bioenergii, które spełnią standardy zrównoważoności oraz polepszą efektywność już istniejących łańcuchów poprzez opracowanie map drogowych dla rozwoju bioenergii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Innowacyjnośc projektu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Arial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Wspomaganie usuwania barier innych niż ekonomiczne (poprawa prawodawstwa związanego z bioenergią)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Znalezienie i dopracowanie innowacyjnych rozwiązań organizacyjnych na podstawie doświadczeń poszczególnych krajów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Opracowanie elastycznych metod finansowania w łańcuchu produkcji surowców oraz bioenergii. 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Przeprowadzenie ocen zrównoważoności  dla  wybranych rozwiązań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Opracowanie innowacyjnych łańcuchów logistycznych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Zaangażowanie poszczególnych aktorów (producentów, przetwórców, dostawców biomasy, producentów bioenergii) do kreowania i oceny nowych rozwiązań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Wpływ na społeczeństwo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Niekonkurencyjne wykorzystanie zasobów ziemi względem produkcji żywności lub paszy dla uprawy biosurowców do produkcji bioenergii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Rekultywacja terenów z ziemiami zanieczyszczonymi, opuszczonymi kopalniami odkrywkowymi lub nieużytków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Stworzenie nowych miejsc pracy w obszarach przekształconych do produkcji biosurowców oraz w miejscach produkcji bioenregii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Zastosowanie reguł zielonej ekonomii w praktyce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</p:txBody>
      </p:sp>
      <p:pic>
        <p:nvPicPr>
          <p:cNvPr id="11" name="Obraz 12" descr="Logo Polbiom.JPG"/>
          <p:cNvPicPr/>
          <p:nvPr/>
        </p:nvPicPr>
        <p:blipFill>
          <a:blip r:embed="rId5"/>
          <a:stretch/>
        </p:blipFill>
        <p:spPr>
          <a:xfrm>
            <a:off x="139680" y="2570040"/>
            <a:ext cx="590400" cy="441360"/>
          </a:xfrm>
          <a:prstGeom prst="rect">
            <a:avLst/>
          </a:prstGeom>
          <a:ln w="0">
            <a:noFill/>
          </a:ln>
        </p:spPr>
      </p:pic>
      <p:grpSp>
        <p:nvGrpSpPr>
          <p:cNvPr id="12" name="Group 26"/>
          <p:cNvGrpSpPr/>
          <p:nvPr/>
        </p:nvGrpSpPr>
        <p:grpSpPr>
          <a:xfrm>
            <a:off x="1262160" y="2570040"/>
            <a:ext cx="4572000" cy="473040"/>
            <a:chOff x="1262160" y="2570040"/>
            <a:chExt cx="4572000" cy="473040"/>
          </a:xfrm>
        </p:grpSpPr>
        <p:sp>
          <p:nvSpPr>
            <p:cNvPr id="13" name=""/>
            <p:cNvSpPr/>
            <p:nvPr/>
          </p:nvSpPr>
          <p:spPr>
            <a:xfrm>
              <a:off x="1262160" y="2570040"/>
              <a:ext cx="2286000" cy="473040"/>
            </a:xfrm>
            <a:prstGeom prst="rect">
              <a:avLst/>
            </a:prstGeom>
            <a:solidFill>
              <a:srgbClr val="edf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Polskie Towarzystwo 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Biomasy POLBIOM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Rakowiecka 32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02-532 Warszawa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48160" y="2570040"/>
              <a:ext cx="2286000" cy="473040"/>
            </a:xfrm>
            <a:prstGeom prst="rect">
              <a:avLst/>
            </a:prstGeom>
            <a:solidFill>
              <a:srgbClr val="edf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Kontakt: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tel. 22 542 11 04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fax 22 542 11 06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0" lang="pl-PL" sz="700" spc="-1" strike="noStrike" u="sng">
                  <a:solidFill>
                    <a:srgbClr val="ff6b2b"/>
                  </a:solidFill>
                  <a:uFillTx/>
                  <a:latin typeface="Calibri"/>
                  <a:hlinkClick r:id="rId6"/>
                </a:rPr>
                <a:t> biuro@polbiom.pl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48160" y="2570040"/>
              <a:ext cx="0" cy="47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62160" y="2570040"/>
              <a:ext cx="0" cy="47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834160" y="2570040"/>
              <a:ext cx="0" cy="47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262160" y="2570040"/>
              <a:ext cx="4572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62160" y="304308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5a5a55"/>
                </a:solidFill>
                <a:latin typeface="Arial"/>
              </a:endParaRPr>
            </a:p>
          </p:txBody>
        </p:sp>
      </p:grpSp>
      <p:sp>
        <p:nvSpPr>
          <p:cNvPr id="20" name="Text Placeholder 3"/>
          <p:cNvSpPr/>
          <p:nvPr/>
        </p:nvSpPr>
        <p:spPr>
          <a:xfrm>
            <a:off x="139680" y="5583240"/>
            <a:ext cx="3240000" cy="2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51480" bIns="514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Studia przypadków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21" name="Text Placeholder 3"/>
          <p:cNvSpPr/>
          <p:nvPr/>
        </p:nvSpPr>
        <p:spPr>
          <a:xfrm>
            <a:off x="3476520" y="5583240"/>
            <a:ext cx="3237120" cy="2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51480" bIns="514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Cele projektu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</p:txBody>
      </p:sp>
      <p:pic>
        <p:nvPicPr>
          <p:cNvPr id="22" name="Obraz 18" descr="Rysunek do posteru v 2.jpg"/>
          <p:cNvPicPr/>
          <p:nvPr/>
        </p:nvPicPr>
        <p:blipFill>
          <a:blip r:embed="rId7"/>
          <a:stretch/>
        </p:blipFill>
        <p:spPr>
          <a:xfrm>
            <a:off x="136440" y="5862600"/>
            <a:ext cx="3243240" cy="2997360"/>
          </a:xfrm>
          <a:prstGeom prst="rect">
            <a:avLst/>
          </a:prstGeom>
          <a:ln w="0">
            <a:noFill/>
          </a:ln>
        </p:spPr>
      </p:pic>
      <p:pic>
        <p:nvPicPr>
          <p:cNvPr id="23" name="Picture 81" descr=""/>
          <p:cNvPicPr/>
          <p:nvPr/>
        </p:nvPicPr>
        <p:blipFill>
          <a:blip r:embed="rId8"/>
          <a:stretch/>
        </p:blipFill>
        <p:spPr>
          <a:xfrm>
            <a:off x="3476520" y="5862600"/>
            <a:ext cx="3237120" cy="299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Kép 35" descr="euflag.eps"/>
          <p:cNvPicPr/>
          <p:nvPr/>
        </p:nvPicPr>
        <p:blipFill>
          <a:blip r:embed="rId2"/>
          <a:stretch/>
        </p:blipFill>
        <p:spPr>
          <a:xfrm>
            <a:off x="4038480" y="9178920"/>
            <a:ext cx="505080" cy="341280"/>
          </a:xfrm>
          <a:prstGeom prst="rect">
            <a:avLst/>
          </a:prstGeom>
          <a:ln w="0">
            <a:noFill/>
          </a:ln>
        </p:spPr>
      </p:pic>
      <p:sp>
        <p:nvSpPr>
          <p:cNvPr id="61" name="Szövegdoboz 39"/>
          <p:cNvSpPr/>
          <p:nvPr/>
        </p:nvSpPr>
        <p:spPr>
          <a:xfrm>
            <a:off x="4602240" y="9183600"/>
            <a:ext cx="2106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10440" bIns="10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700" spc="-1" strike="noStrike">
                <a:solidFill>
                  <a:srgbClr val="5a5a55"/>
                </a:solidFill>
                <a:latin typeface="Calibri Light"/>
              </a:rPr>
              <a:t>This project has received funding from the European Union's Horizon 2020 research and innovation programme under grant agreement No691846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62" name="Text Box 262"/>
          <p:cNvSpPr/>
          <p:nvPr/>
        </p:nvSpPr>
        <p:spPr>
          <a:xfrm>
            <a:off x="139680" y="8980560"/>
            <a:ext cx="17445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788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hu-HU" sz="800" spc="-1" strike="noStrike">
                <a:solidFill>
                  <a:srgbClr val="5a5a55"/>
                </a:solidFill>
                <a:latin typeface="Calibri Light"/>
              </a:rPr>
              <a:t>COORDINATOR:</a:t>
            </a:r>
            <a:endParaRPr b="0" lang="en-US" sz="8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hu-HU" sz="700" spc="-1" strike="noStrike">
                <a:solidFill>
                  <a:srgbClr val="5a5a55"/>
                </a:solidFill>
                <a:latin typeface="Calibri Light"/>
              </a:rPr>
              <a:t>WIP RENEWABLE ENERGIES</a:t>
            </a:r>
            <a:br>
              <a:rPr sz="1200"/>
            </a:br>
            <a:r>
              <a:rPr b="0" lang="hu-HU" sz="600" spc="-1" strike="noStrike">
                <a:solidFill>
                  <a:srgbClr val="5a5a55"/>
                </a:solidFill>
                <a:latin typeface="Calibri Light"/>
              </a:rPr>
              <a:t>Dr. Rainer Janssen</a:t>
            </a:r>
            <a:br>
              <a:rPr sz="600"/>
            </a:br>
            <a:r>
              <a:rPr b="0" lang="hu-HU" sz="600" spc="-1" strike="noStrike">
                <a:solidFill>
                  <a:srgbClr val="5a5a55"/>
                </a:solidFill>
                <a:latin typeface="Calibri Light"/>
              </a:rPr>
              <a:t>Head of Unit Biomass Department</a:t>
            </a:r>
            <a:br>
              <a:rPr sz="600"/>
            </a:br>
            <a:r>
              <a:rPr b="0" lang="hu-HU" sz="600" spc="-1" strike="noStrike">
                <a:solidFill>
                  <a:srgbClr val="5a5a55"/>
                </a:solidFill>
                <a:latin typeface="Calibri Light"/>
              </a:rPr>
              <a:t>Sylvensteinstr. 2, D-81369 Muenchen, Germany</a:t>
            </a:r>
            <a:endParaRPr b="0" lang="en-US" sz="6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63" name="Text Box 274"/>
          <p:cNvSpPr/>
          <p:nvPr/>
        </p:nvSpPr>
        <p:spPr>
          <a:xfrm>
            <a:off x="1028880" y="9271080"/>
            <a:ext cx="1650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76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19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64" name="Téglalap 17"/>
          <p:cNvSpPr/>
          <p:nvPr/>
        </p:nvSpPr>
        <p:spPr>
          <a:xfrm>
            <a:off x="0" y="876240"/>
            <a:ext cx="6858000" cy="8043840"/>
          </a:xfrm>
          <a:prstGeom prst="rect">
            <a:avLst/>
          </a:prstGeom>
          <a:solidFill>
            <a:srgbClr val="88b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9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65" name="Text Placeholder 3"/>
          <p:cNvSpPr/>
          <p:nvPr/>
        </p:nvSpPr>
        <p:spPr>
          <a:xfrm>
            <a:off x="1889280" y="9241200"/>
            <a:ext cx="15811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1480" tIns="51480" bIns="51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164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hu-HU" sz="800" spc="-1" strike="noStrike">
                <a:solidFill>
                  <a:srgbClr val="5a5a55"/>
                </a:solidFill>
                <a:latin typeface="Calibri Light"/>
              </a:rPr>
              <a:t>FOR MORE INFORMATION VISIT</a:t>
            </a:r>
            <a:endParaRPr b="0" lang="en-US" sz="8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164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hu-HU" sz="800" spc="-1" strike="noStrike">
                <a:solidFill>
                  <a:srgbClr val="5a5a55"/>
                </a:solidFill>
                <a:latin typeface="Calibri Light"/>
              </a:rPr>
              <a:t>www.forbio-project.eu </a:t>
            </a:r>
            <a:endParaRPr b="0" lang="en-US" sz="800" spc="-1" strike="noStrike">
              <a:solidFill>
                <a:srgbClr val="5a5a55"/>
              </a:solidFill>
              <a:latin typeface="Arial"/>
            </a:endParaRPr>
          </a:p>
        </p:txBody>
      </p:sp>
      <p:pic>
        <p:nvPicPr>
          <p:cNvPr id="66" name="Kép 29" descr="forbio_logo-01.jpg"/>
          <p:cNvPicPr/>
          <p:nvPr/>
        </p:nvPicPr>
        <p:blipFill>
          <a:blip r:embed="rId3"/>
          <a:stretch/>
        </p:blipFill>
        <p:spPr>
          <a:xfrm>
            <a:off x="139680" y="138240"/>
            <a:ext cx="2289240" cy="738000"/>
          </a:xfrm>
          <a:prstGeom prst="rect">
            <a:avLst/>
          </a:prstGeom>
          <a:ln w="0">
            <a:noFill/>
          </a:ln>
        </p:spPr>
      </p:pic>
      <p:sp>
        <p:nvSpPr>
          <p:cNvPr id="67" name="Szövegdoboz 30"/>
          <p:cNvSpPr/>
          <p:nvPr/>
        </p:nvSpPr>
        <p:spPr>
          <a:xfrm>
            <a:off x="2265480" y="328680"/>
            <a:ext cx="4443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10440" bIns="10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000" spc="-1" strike="noStrike">
                <a:solidFill>
                  <a:srgbClr val="5a5a55"/>
                </a:solidFill>
                <a:latin typeface="Calibri"/>
              </a:rPr>
              <a:t>Fostering Sustainable Feedstock Production for </a:t>
            </a:r>
            <a:br>
              <a:rPr sz="1000"/>
            </a:br>
            <a:r>
              <a:rPr b="1" lang="en-US" sz="1000" spc="-1" strike="noStrike">
                <a:solidFill>
                  <a:srgbClr val="5a5a55"/>
                </a:solidFill>
                <a:latin typeface="Calibri"/>
              </a:rPr>
              <a:t>Advanced Biofuels on underutilised land in Europe</a:t>
            </a:r>
            <a:endParaRPr b="0" lang="en-US" sz="10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68" name="Szöveg helye 5"/>
          <p:cNvSpPr/>
          <p:nvPr/>
        </p:nvSpPr>
        <p:spPr>
          <a:xfrm>
            <a:off x="0" y="8748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10440" bIns="10440" anchor="t">
            <a:noAutofit/>
          </a:bodyPr>
          <a:p>
            <a:pPr marL="369720" indent="-3697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2200" spc="-1" strike="noStrike">
                <a:solidFill>
                  <a:srgbClr val="5a5a55"/>
                </a:solidFill>
                <a:latin typeface="Calibri"/>
              </a:rPr>
              <a:t>Promowanie zrównoważonej produkcji surowców dla zaawansowanych biopaliw na gruntach niewykorzystanych rolniczo w Europie</a:t>
            </a:r>
            <a:endParaRPr b="0" lang="en-US" sz="22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69" name="Szöveg helye 4"/>
          <p:cNvSpPr/>
          <p:nvPr/>
        </p:nvSpPr>
        <p:spPr>
          <a:xfrm>
            <a:off x="41400" y="1889280"/>
            <a:ext cx="68580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10440" bIns="10440" anchor="t">
            <a:noAutofit/>
          </a:bodyPr>
          <a:p>
            <a:pPr marL="369720" indent="-36972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hu-HU" sz="1500" spc="-1" strike="noStrike">
                <a:solidFill>
                  <a:srgbClr val="5a5a55"/>
                </a:solidFill>
                <a:latin typeface="Calibri"/>
              </a:rPr>
              <a:t>Anna Grzybek, Marek Hryniewicz</a:t>
            </a:r>
            <a:endParaRPr b="0" lang="en-US" sz="15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70" name="Text Placeholder 3"/>
          <p:cNvSpPr/>
          <p:nvPr/>
        </p:nvSpPr>
        <p:spPr>
          <a:xfrm>
            <a:off x="136440" y="2540160"/>
            <a:ext cx="6572160" cy="287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Istota projektu</a:t>
            </a:r>
            <a:br>
              <a:rPr sz="700"/>
            </a:b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Projekt FORBIO zademonstruje rentowność użycia ziemi w państwach UE dla wytwarzania surowców do produkcji bioenergii bez konkurencji z produkcją żywności oraz bez wykorzystywania gruntów obecnie użytkowanych do celów rekreacyjnych lub ochrony środowiska. Rozwinie </a:t>
            </a: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metodę oceny potencjału produkcji bioenergii z surowców wyprodukowanych na dostępnych gruntach niewykorzystywanych rolniczo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(zanieczyszczonych, ugorach, itp.) na poziomie krajowym i lokalnym. W tym kontekście będą opracowane  studia wykonalności w trzech państwach (Włoszech, Niemczech i Ukrainie). Ustalone zostaną podstawy  do budowy lokalnych łańcuchów produkcji bioenergii, które spełnią standardy zrównoważoności oraz polepszą efektywność już istniejących łańcuchów poprzez opracowanie map drogowych dla rozwoju bioenergii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Innowacyjnośc projektu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Arial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Wspomaganie usuwania barier innych niż ekonomiczne (poprawa prawodawstwa związanego z bioenergią)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Znalezienie i dopracowanie innowacyjnych rozwiązań organizacyjnych na podstawie doświadczeń poszczególnych krajów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Opracowanie elastycznych metod finansowania w łańcuchu produkcji surowców oraz bioenergii. 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Przeprowadzenie ocen zrównoważoności  dla  wybranych rozwiązań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Opracowanie innowacyjnych łańcuchów logistycznych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Zaangażowanie poszczególnych aktorów (producentów, przetwórców, dostawców biomasy, producentów bioenergii) do kreowania i oceny nowych rozwiązań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Wpływ na społeczeństwo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Niekonkurencyjne wykorzystanie zasobów ziemi względem produkcji żywności lub paszy dla uprawy biosurowców do produkcji bioenergii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Rekultywacja terenów z ziemiami zanieczyszczonymi, opuszczonymi kopalniami odkrywkowymi lub nieużytków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 </a:t>
            </a: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Stworzenie nowych miejsc pracy w obszarach przekształconych do produkcji biosurowców oraz w miejscach produkcji bioenregii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5a55"/>
              </a:buClr>
              <a:buFont typeface="Calibri Light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pl-PL" sz="700" spc="-1" strike="noStrike">
                <a:solidFill>
                  <a:srgbClr val="5a5a55"/>
                </a:solidFill>
                <a:latin typeface="Calibri Light"/>
              </a:rPr>
              <a:t>Zastosowanie reguł zielonej ekonomii w praktyce.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</p:txBody>
      </p:sp>
      <p:pic>
        <p:nvPicPr>
          <p:cNvPr id="71" name="Obraz 31" descr="Logo Polbiom.JPG"/>
          <p:cNvPicPr/>
          <p:nvPr/>
        </p:nvPicPr>
        <p:blipFill>
          <a:blip r:embed="rId4"/>
          <a:stretch/>
        </p:blipFill>
        <p:spPr>
          <a:xfrm>
            <a:off x="139680" y="2570040"/>
            <a:ext cx="590400" cy="4413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26"/>
          <p:cNvGrpSpPr/>
          <p:nvPr/>
        </p:nvGrpSpPr>
        <p:grpSpPr>
          <a:xfrm>
            <a:off x="1262160" y="2570040"/>
            <a:ext cx="4572000" cy="473040"/>
            <a:chOff x="1262160" y="2570040"/>
            <a:chExt cx="4572000" cy="473040"/>
          </a:xfrm>
        </p:grpSpPr>
        <p:sp>
          <p:nvSpPr>
            <p:cNvPr id="73" name=""/>
            <p:cNvSpPr/>
            <p:nvPr/>
          </p:nvSpPr>
          <p:spPr>
            <a:xfrm>
              <a:off x="1262160" y="2570040"/>
              <a:ext cx="2286000" cy="473040"/>
            </a:xfrm>
            <a:prstGeom prst="rect">
              <a:avLst/>
            </a:prstGeom>
            <a:solidFill>
              <a:srgbClr val="edf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Polskie Towarzystwo 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Biomasy POLBIOM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Rakowiecka 32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02-532 Warszawa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48160" y="2570040"/>
              <a:ext cx="2286000" cy="473040"/>
            </a:xfrm>
            <a:prstGeom prst="rect">
              <a:avLst/>
            </a:prstGeom>
            <a:solidFill>
              <a:srgbClr val="edf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0880" rIns="2088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Kontakt: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tel. 22 542 11 04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5a5a55"/>
                  </a:solidFill>
                  <a:latin typeface="Calibri"/>
                </a:rPr>
                <a:t>fax 22 542 11 06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09520"/>
                  <a:tab algn="l" pos="419040"/>
                  <a:tab algn="l" pos="628560"/>
                  <a:tab algn="l" pos="838080"/>
                  <a:tab algn="l" pos="1047600"/>
                  <a:tab algn="l" pos="1257480"/>
                  <a:tab algn="l" pos="1467000"/>
                  <a:tab algn="l" pos="1676520"/>
                  <a:tab algn="l" pos="1886040"/>
                  <a:tab algn="l" pos="2095560"/>
                  <a:tab algn="l" pos="2305080"/>
                  <a:tab algn="l" pos="2514600"/>
                  <a:tab algn="l" pos="2724120"/>
                  <a:tab algn="l" pos="2933640"/>
                  <a:tab algn="l" pos="3143160"/>
                  <a:tab algn="l" pos="3352680"/>
                  <a:tab algn="l" pos="3562200"/>
                  <a:tab algn="l" pos="3772080"/>
                  <a:tab algn="l" pos="3981600"/>
                  <a:tab algn="l" pos="4191120"/>
                </a:tabLst>
              </a:pPr>
              <a:r>
                <a:rPr b="1" lang="pl-PL" sz="700" spc="-1" strike="noStrike">
                  <a:solidFill>
                    <a:srgbClr val="00b0f0"/>
                  </a:solidFill>
                  <a:latin typeface="Calibri"/>
                </a:rPr>
                <a:t> </a:t>
              </a:r>
              <a:r>
                <a:rPr b="1" lang="pl-PL" sz="700" spc="-1" strike="noStrike">
                  <a:solidFill>
                    <a:srgbClr val="00b0f0"/>
                  </a:solidFill>
                  <a:latin typeface="Calibri"/>
                </a:rPr>
                <a:t>biuro@polbiom.pl</a:t>
              </a:r>
              <a:endParaRPr b="0" lang="en-US" sz="7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48160" y="2570040"/>
              <a:ext cx="0" cy="47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62160" y="2570040"/>
              <a:ext cx="0" cy="47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34160" y="2570040"/>
              <a:ext cx="0" cy="47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62160" y="2570040"/>
              <a:ext cx="4572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5a5a55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62160" y="304308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5a5a55"/>
                </a:solidFill>
                <a:latin typeface="Arial"/>
              </a:endParaRPr>
            </a:p>
          </p:txBody>
        </p:sp>
      </p:grpSp>
      <p:sp>
        <p:nvSpPr>
          <p:cNvPr id="80" name="Text Placeholder 3"/>
          <p:cNvSpPr/>
          <p:nvPr/>
        </p:nvSpPr>
        <p:spPr>
          <a:xfrm>
            <a:off x="139680" y="5583240"/>
            <a:ext cx="3240000" cy="2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51480" bIns="514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Studia przypadków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</p:txBody>
      </p:sp>
      <p:sp>
        <p:nvSpPr>
          <p:cNvPr id="81" name="Text Placeholder 3"/>
          <p:cNvSpPr/>
          <p:nvPr/>
        </p:nvSpPr>
        <p:spPr>
          <a:xfrm>
            <a:off x="3476520" y="5583240"/>
            <a:ext cx="3237120" cy="2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51480" bIns="5148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l-PL" sz="700" spc="-1" strike="noStrike">
                <a:solidFill>
                  <a:srgbClr val="5a5a55"/>
                </a:solidFill>
                <a:latin typeface="Calibri Light"/>
              </a:rPr>
              <a:t>Cele projektu</a:t>
            </a:r>
            <a:endParaRPr b="0" lang="en-US" sz="700" spc="-1" strike="noStrike">
              <a:solidFill>
                <a:srgbClr val="5a5a55"/>
              </a:solidFill>
              <a:latin typeface="Arial"/>
            </a:endParaRPr>
          </a:p>
        </p:txBody>
      </p:sp>
      <p:pic>
        <p:nvPicPr>
          <p:cNvPr id="82" name="Obraz 18" descr="Rysunek do posteru v 2.jpg"/>
          <p:cNvPicPr/>
          <p:nvPr/>
        </p:nvPicPr>
        <p:blipFill>
          <a:blip r:embed="rId5"/>
          <a:stretch/>
        </p:blipFill>
        <p:spPr>
          <a:xfrm>
            <a:off x="136440" y="5862600"/>
            <a:ext cx="3243240" cy="299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1" descr=""/>
          <p:cNvPicPr/>
          <p:nvPr/>
        </p:nvPicPr>
        <p:blipFill>
          <a:blip r:embed="rId6"/>
          <a:stretch/>
        </p:blipFill>
        <p:spPr>
          <a:xfrm>
            <a:off x="3476520" y="5862600"/>
            <a:ext cx="3237120" cy="2997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9720" indent="-369720">
              <a:spcBef>
                <a:spcPts val="876"/>
              </a:spcBef>
              <a:buClr>
                <a:srgbClr val="5a5a55"/>
              </a:buClr>
              <a:buFont typeface="Arial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500" spc="-1" strike="noStrike">
                <a:solidFill>
                  <a:srgbClr val="5a5a55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5a5a55"/>
              </a:solidFill>
              <a:latin typeface="Calibri"/>
            </a:endParaRPr>
          </a:p>
          <a:p>
            <a:pPr lvl="1" marL="800280" indent="-308160">
              <a:spcBef>
                <a:spcPts val="751"/>
              </a:spcBef>
              <a:buClr>
                <a:srgbClr val="5a5a55"/>
              </a:buClr>
              <a:buFont typeface="Arial"/>
              <a:buChar char="–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5a5a55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5a5a55"/>
              </a:solidFill>
              <a:latin typeface="Calibri"/>
            </a:endParaRPr>
          </a:p>
          <a:p>
            <a:pPr lvl="2" marL="1231920" indent="-246240">
              <a:spcBef>
                <a:spcPts val="649"/>
              </a:spcBef>
              <a:buClr>
                <a:srgbClr val="5a5a55"/>
              </a:buClr>
              <a:buFont typeface="Arial"/>
              <a:buChar char="•"/>
              <a:tabLst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5a5a55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5a5a55"/>
              </a:solidFill>
              <a:latin typeface="Calibri"/>
            </a:endParaRPr>
          </a:p>
          <a:p>
            <a:pPr lvl="3" marL="1724040" indent="-246240">
              <a:spcBef>
                <a:spcPts val="550"/>
              </a:spcBef>
              <a:buClr>
                <a:srgbClr val="5a5a55"/>
              </a:buClr>
              <a:buFont typeface="Arial"/>
              <a:buChar char="–"/>
              <a:tabLst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200" spc="-1" strike="noStrike">
                <a:solidFill>
                  <a:srgbClr val="5a5a55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5a5a55"/>
              </a:solidFill>
              <a:latin typeface="Calibri"/>
            </a:endParaRPr>
          </a:p>
          <a:p>
            <a:pPr lvl="4" marL="2217600" indent="-245880">
              <a:spcBef>
                <a:spcPts val="550"/>
              </a:spcBef>
              <a:buClr>
                <a:srgbClr val="5a5a55"/>
              </a:buClr>
              <a:buFont typeface="Arial"/>
              <a:buChar char="»"/>
              <a:tabLst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200" spc="-1" strike="noStrike">
                <a:solidFill>
                  <a:srgbClr val="5a5a55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5a5a55"/>
              </a:solidFill>
              <a:latin typeface="Calibri"/>
            </a:endParaRPr>
          </a:p>
          <a:p>
            <a:pPr lvl="5" marL="2217600" indent="-245880">
              <a:spcBef>
                <a:spcPts val="550"/>
              </a:spcBef>
              <a:buClr>
                <a:srgbClr val="5a5a5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5a55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5a5a55"/>
              </a:solidFill>
              <a:latin typeface="Calibri"/>
            </a:endParaRPr>
          </a:p>
          <a:p>
            <a:pPr lvl="6" marL="2217600" indent="-245880">
              <a:spcBef>
                <a:spcPts val="550"/>
              </a:spcBef>
              <a:buClr>
                <a:srgbClr val="5a5a5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5a55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5a5a5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209600" y="2573280"/>
          <a:ext cx="4721400" cy="557280"/>
        </p:xfrm>
        <a:graphic>
          <a:graphicData uri="http://schemas.openxmlformats.org/drawingml/2006/table">
            <a:tbl>
              <a:tblPr/>
              <a:tblGrid>
                <a:gridCol w="2360520"/>
                <a:gridCol w="2360880"/>
              </a:tblGrid>
              <a:tr h="557280">
                <a:tc>
                  <a:txBody>
                    <a:bodyPr lIns="20880" rIns="20880" tIns="10440" bIns="10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419040"/>
                          <a:tab algn="l" pos="628560"/>
                          <a:tab algn="l" pos="838080"/>
                          <a:tab algn="l" pos="1047600"/>
                          <a:tab algn="l" pos="1257480"/>
                          <a:tab algn="l" pos="1467000"/>
                          <a:tab algn="l" pos="1676520"/>
                          <a:tab algn="l" pos="1886040"/>
                          <a:tab algn="l" pos="2095560"/>
                          <a:tab algn="l" pos="2305080"/>
                          <a:tab algn="l" pos="2514600"/>
                          <a:tab algn="l" pos="2724120"/>
                          <a:tab algn="l" pos="2933640"/>
                          <a:tab algn="l" pos="3143160"/>
                          <a:tab algn="l" pos="3352680"/>
                          <a:tab algn="l" pos="3562200"/>
                          <a:tab algn="l" pos="3772080"/>
                          <a:tab algn="l" pos="3981600"/>
                          <a:tab algn="l" pos="4191120"/>
                        </a:tabLst>
                      </a:pPr>
                      <a:r>
                        <a:rPr b="1" lang="pl-PL" sz="700" spc="-1" strike="noStrike">
                          <a:solidFill>
                            <a:srgbClr val="5a5a55"/>
                          </a:solidFill>
                          <a:latin typeface="Calibri"/>
                        </a:rPr>
                        <a:t>Polskie Towarzystwo </a:t>
                      </a:r>
                      <a:endParaRPr b="0" lang="en-US" sz="700" spc="-1" strike="noStrike">
                        <a:solidFill>
                          <a:srgbClr val="5a5a55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419040"/>
                          <a:tab algn="l" pos="628560"/>
                          <a:tab algn="l" pos="838080"/>
                          <a:tab algn="l" pos="1047600"/>
                          <a:tab algn="l" pos="1257480"/>
                          <a:tab algn="l" pos="1467000"/>
                          <a:tab algn="l" pos="1676520"/>
                          <a:tab algn="l" pos="1886040"/>
                          <a:tab algn="l" pos="2095560"/>
                          <a:tab algn="l" pos="2305080"/>
                          <a:tab algn="l" pos="2514600"/>
                          <a:tab algn="l" pos="2724120"/>
                          <a:tab algn="l" pos="2933640"/>
                          <a:tab algn="l" pos="3143160"/>
                          <a:tab algn="l" pos="3352680"/>
                          <a:tab algn="l" pos="3562200"/>
                          <a:tab algn="l" pos="3772080"/>
                          <a:tab algn="l" pos="3981600"/>
                          <a:tab algn="l" pos="4191120"/>
                        </a:tabLst>
                      </a:pPr>
                      <a:r>
                        <a:rPr b="1" lang="pl-PL" sz="700" spc="-1" strike="noStrike">
                          <a:solidFill>
                            <a:srgbClr val="5a5a55"/>
                          </a:solidFill>
                          <a:latin typeface="Calibri"/>
                        </a:rPr>
                        <a:t>Biomasy POLBIOM</a:t>
                      </a:r>
                      <a:endParaRPr b="0" lang="en-US" sz="700" spc="-1" strike="noStrike">
                        <a:solidFill>
                          <a:srgbClr val="5a5a55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419040"/>
                          <a:tab algn="l" pos="628560"/>
                          <a:tab algn="l" pos="838080"/>
                          <a:tab algn="l" pos="1047600"/>
                          <a:tab algn="l" pos="1257480"/>
                          <a:tab algn="l" pos="1467000"/>
                          <a:tab algn="l" pos="1676520"/>
                          <a:tab algn="l" pos="1886040"/>
                          <a:tab algn="l" pos="2095560"/>
                          <a:tab algn="l" pos="2305080"/>
                          <a:tab algn="l" pos="2514600"/>
                          <a:tab algn="l" pos="2724120"/>
                          <a:tab algn="l" pos="2933640"/>
                          <a:tab algn="l" pos="3143160"/>
                          <a:tab algn="l" pos="3352680"/>
                          <a:tab algn="l" pos="3562200"/>
                          <a:tab algn="l" pos="3772080"/>
                          <a:tab algn="l" pos="3981600"/>
                          <a:tab algn="l" pos="4191120"/>
                        </a:tabLst>
                      </a:pPr>
                      <a:r>
                        <a:rPr b="1" lang="pl-PL" sz="700" spc="-1" strike="noStrike">
                          <a:solidFill>
                            <a:srgbClr val="5a5a55"/>
                          </a:solidFill>
                          <a:latin typeface="Calibri"/>
                        </a:rPr>
                        <a:t>Rakowiecka 32</a:t>
                      </a:r>
                      <a:endParaRPr b="0" lang="en-US" sz="700" spc="-1" strike="noStrike">
                        <a:solidFill>
                          <a:srgbClr val="5a5a55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419040"/>
                          <a:tab algn="l" pos="628560"/>
                          <a:tab algn="l" pos="838080"/>
                          <a:tab algn="l" pos="1047600"/>
                          <a:tab algn="l" pos="1257480"/>
                          <a:tab algn="l" pos="1467000"/>
                          <a:tab algn="l" pos="1676520"/>
                          <a:tab algn="l" pos="1886040"/>
                          <a:tab algn="l" pos="2095560"/>
                          <a:tab algn="l" pos="2305080"/>
                          <a:tab algn="l" pos="2514600"/>
                          <a:tab algn="l" pos="2724120"/>
                          <a:tab algn="l" pos="2933640"/>
                          <a:tab algn="l" pos="3143160"/>
                          <a:tab algn="l" pos="3352680"/>
                          <a:tab algn="l" pos="3562200"/>
                          <a:tab algn="l" pos="3772080"/>
                          <a:tab algn="l" pos="3981600"/>
                          <a:tab algn="l" pos="4191120"/>
                        </a:tabLst>
                      </a:pPr>
                      <a:r>
                        <a:rPr b="1" lang="pl-PL" sz="700" spc="-1" strike="noStrike">
                          <a:solidFill>
                            <a:srgbClr val="5a5a55"/>
                          </a:solidFill>
                          <a:latin typeface="Calibri"/>
                        </a:rPr>
                        <a:t>02-532 Warszawa</a:t>
                      </a:r>
                      <a:endParaRPr b="0" lang="en-US" sz="700" spc="-1" strike="noStrike">
                        <a:solidFill>
                          <a:srgbClr val="5a5a55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0880" rIns="20880" tIns="10440" bIns="10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419040"/>
                          <a:tab algn="l" pos="628560"/>
                          <a:tab algn="l" pos="838080"/>
                          <a:tab algn="l" pos="1047600"/>
                          <a:tab algn="l" pos="1257480"/>
                          <a:tab algn="l" pos="1467000"/>
                          <a:tab algn="l" pos="1676520"/>
                          <a:tab algn="l" pos="1886040"/>
                          <a:tab algn="l" pos="2095560"/>
                          <a:tab algn="l" pos="2305080"/>
                          <a:tab algn="l" pos="2514600"/>
                          <a:tab algn="l" pos="2724120"/>
                          <a:tab algn="l" pos="2933640"/>
                          <a:tab algn="l" pos="3143160"/>
                          <a:tab algn="l" pos="3352680"/>
                          <a:tab algn="l" pos="3562200"/>
                          <a:tab algn="l" pos="3772080"/>
                          <a:tab algn="l" pos="3981600"/>
                          <a:tab algn="l" pos="4191120"/>
                        </a:tabLst>
                      </a:pPr>
                      <a:r>
                        <a:rPr b="1" lang="pl-PL" sz="700" spc="-1" strike="noStrike">
                          <a:solidFill>
                            <a:srgbClr val="5a5a55"/>
                          </a:solidFill>
                          <a:latin typeface="Calibri"/>
                        </a:rPr>
                        <a:t>Kontakt:</a:t>
                      </a:r>
                      <a:endParaRPr b="0" lang="en-US" sz="700" spc="-1" strike="noStrike">
                        <a:solidFill>
                          <a:srgbClr val="5a5a55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419040"/>
                          <a:tab algn="l" pos="628560"/>
                          <a:tab algn="l" pos="838080"/>
                          <a:tab algn="l" pos="1047600"/>
                          <a:tab algn="l" pos="1257480"/>
                          <a:tab algn="l" pos="1467000"/>
                          <a:tab algn="l" pos="1676520"/>
                          <a:tab algn="l" pos="1886040"/>
                          <a:tab algn="l" pos="2095560"/>
                          <a:tab algn="l" pos="2305080"/>
                          <a:tab algn="l" pos="2514600"/>
                          <a:tab algn="l" pos="2724120"/>
                          <a:tab algn="l" pos="2933640"/>
                          <a:tab algn="l" pos="3143160"/>
                          <a:tab algn="l" pos="3352680"/>
                          <a:tab algn="l" pos="3562200"/>
                          <a:tab algn="l" pos="3772080"/>
                          <a:tab algn="l" pos="3981600"/>
                          <a:tab algn="l" pos="4191120"/>
                        </a:tabLst>
                      </a:pPr>
                      <a:r>
                        <a:rPr b="1" lang="pl-PL" sz="700" spc="-1" strike="noStrike">
                          <a:solidFill>
                            <a:srgbClr val="5a5a55"/>
                          </a:solidFill>
                          <a:latin typeface="Calibri"/>
                        </a:rPr>
                        <a:t>tel. 22 542 11 04</a:t>
                      </a:r>
                      <a:endParaRPr b="0" lang="en-US" sz="700" spc="-1" strike="noStrike">
                        <a:solidFill>
                          <a:srgbClr val="5a5a55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419040"/>
                          <a:tab algn="l" pos="628560"/>
                          <a:tab algn="l" pos="838080"/>
                          <a:tab algn="l" pos="1047600"/>
                          <a:tab algn="l" pos="1257480"/>
                          <a:tab algn="l" pos="1467000"/>
                          <a:tab algn="l" pos="1676520"/>
                          <a:tab algn="l" pos="1886040"/>
                          <a:tab algn="l" pos="2095560"/>
                          <a:tab algn="l" pos="2305080"/>
                          <a:tab algn="l" pos="2514600"/>
                          <a:tab algn="l" pos="2724120"/>
                          <a:tab algn="l" pos="2933640"/>
                          <a:tab algn="l" pos="3143160"/>
                          <a:tab algn="l" pos="3352680"/>
                          <a:tab algn="l" pos="3562200"/>
                          <a:tab algn="l" pos="3772080"/>
                          <a:tab algn="l" pos="3981600"/>
                          <a:tab algn="l" pos="4191120"/>
                        </a:tabLst>
                      </a:pPr>
                      <a:r>
                        <a:rPr b="1" lang="pl-PL" sz="700" spc="-1" strike="noStrike">
                          <a:solidFill>
                            <a:srgbClr val="5a5a55"/>
                          </a:solidFill>
                          <a:latin typeface="Calibri"/>
                        </a:rPr>
                        <a:t>fax 22 542 11 06</a:t>
                      </a:r>
                      <a:endParaRPr b="0" lang="en-US" sz="700" spc="-1" strike="noStrike">
                        <a:solidFill>
                          <a:srgbClr val="5a5a55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419040"/>
                          <a:tab algn="l" pos="628560"/>
                          <a:tab algn="l" pos="838080"/>
                          <a:tab algn="l" pos="1047600"/>
                          <a:tab algn="l" pos="1257480"/>
                          <a:tab algn="l" pos="1467000"/>
                          <a:tab algn="l" pos="1676520"/>
                          <a:tab algn="l" pos="1886040"/>
                          <a:tab algn="l" pos="2095560"/>
                          <a:tab algn="l" pos="2305080"/>
                          <a:tab algn="l" pos="2514600"/>
                          <a:tab algn="l" pos="2724120"/>
                          <a:tab algn="l" pos="2933640"/>
                          <a:tab algn="l" pos="3143160"/>
                          <a:tab algn="l" pos="3352680"/>
                          <a:tab algn="l" pos="3562200"/>
                          <a:tab algn="l" pos="3772080"/>
                          <a:tab algn="l" pos="3981600"/>
                          <a:tab algn="l" pos="4191120"/>
                        </a:tabLst>
                      </a:pPr>
                      <a:r>
                        <a:rPr b="1" lang="pl-PL" sz="7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 </a:t>
                      </a:r>
                      <a:r>
                        <a:rPr b="1" lang="pl-PL" sz="7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biuro@polbiom.pl</a:t>
                      </a:r>
                      <a:endParaRPr b="0" lang="en-US" sz="700" spc="-1" strike="noStrike">
                        <a:solidFill>
                          <a:srgbClr val="5a5a55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Szöveg helye 4"/>
          <p:cNvSpPr/>
          <p:nvPr/>
        </p:nvSpPr>
        <p:spPr>
          <a:xfrm>
            <a:off x="0" y="1887480"/>
            <a:ext cx="685800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880" rIns="20880" tIns="10440" bIns="10440" anchor="t">
            <a:noAutofit/>
          </a:bodyPr>
          <a:p>
            <a:pPr marL="369720" indent="-36972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hu-HU" sz="1500" spc="-1" strike="noStrike">
                <a:solidFill>
                  <a:srgbClr val="88bd0d"/>
                </a:solidFill>
                <a:latin typeface="Calibri"/>
              </a:rPr>
              <a:t>Anna Grzybek, Marek Hryniewicz</a:t>
            </a:r>
            <a:endParaRPr b="0" lang="en-US" sz="1500" spc="-1" strike="noStrike">
              <a:solidFill>
                <a:srgbClr val="5a5a55"/>
              </a:solidFill>
              <a:latin typeface="Arial"/>
            </a:endParaRPr>
          </a:p>
        </p:txBody>
      </p:sp>
      <p:pic>
        <p:nvPicPr>
          <p:cNvPr id="124" name="Obraz 4" descr="FORBIO logblock minimized.jpg"/>
          <p:cNvPicPr/>
          <p:nvPr/>
        </p:nvPicPr>
        <p:blipFill>
          <a:blip r:embed="rId1"/>
          <a:stretch/>
        </p:blipFill>
        <p:spPr>
          <a:xfrm>
            <a:off x="957240" y="9583560"/>
            <a:ext cx="490212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0:21:22Z</dcterms:created>
  <dc:creator>CanterburyMedia</dc:creator>
  <dc:description>This template is the property of PosterPresentations.com. Call us if you need help with this poster template.
1-866-649-3004           
 (c)PosterPresentations.com</dc:description>
  <dc:language>en-US</dc:language>
  <cp:lastModifiedBy>1</cp:lastModifiedBy>
  <dcterms:modified xsi:type="dcterms:W3CDTF">2017-07-14T08:13:23Z</dcterms:modified>
  <cp:revision>167</cp:revision>
  <dc:subject/>
  <dc:title>PowerPoint Presentation</dc:title>
</cp:coreProperties>
</file>