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12A-7713-4043-AD4E-3913954A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DA2-8256-4452-8778-E557C380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823-00AB-445D-B0FB-68C088C1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08C-C787-4C51-B138-8F5E84B9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E31-F0B7-4F24-A4DD-9645F3D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C7B-8E37-4AA1-AD7E-13688EF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C6E-4746-4FBE-A0D2-A1A6FCF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A5D-533C-40A2-B1DF-8D05C6F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D43-5AC6-494C-B83B-CF6DD274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0D6-5E5F-4A6F-A3A3-60E74B2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320-A85E-4D51-9CD7-5E1FDBB7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ED0-22CD-4F84-80A1-FDAB003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531F-2505-4D1F-8AB6-A837A4A2FBA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976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4B, konferencja i wystawa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y biomasa to biznes?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mowanie zrównoważonej produkcji surowców dla zaawansowanych biopaliw na gruntach niewykorzystanych w Euro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lskie Towarzystwo Biomasy POLB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0.05.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 FORBIO"/>
          <p:cNvPicPr/>
          <p:nvPr/>
        </p:nvPicPr>
        <p:blipFill>
          <a:blip r:embed="rId1"/>
          <a:stretch/>
        </p:blipFill>
        <p:spPr>
          <a:xfrm>
            <a:off x="988920" y="0"/>
            <a:ext cx="7164360" cy="2108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ogo Polbiom"/>
          <p:cNvPicPr/>
          <p:nvPr/>
        </p:nvPicPr>
        <p:blipFill>
          <a:blip r:embed="rId2"/>
          <a:stretch/>
        </p:blipFill>
        <p:spPr>
          <a:xfrm>
            <a:off x="250920" y="4149720"/>
            <a:ext cx="2014560" cy="1473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484360" y="1700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3399ff"/>
                </a:solidFill>
                <a:uFillTx/>
                <a:latin typeface="Arial"/>
              </a:rPr>
              <a:t>www.forbio-project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flag_yellow_low"/>
          <p:cNvPicPr/>
          <p:nvPr/>
        </p:nvPicPr>
        <p:blipFill>
          <a:blip r:embed="rId3"/>
          <a:stretch/>
        </p:blipFill>
        <p:spPr>
          <a:xfrm>
            <a:off x="825480" y="5878440"/>
            <a:ext cx="865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paliwa stałe - 97,64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gaz  -   2,36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iopłyny  - 0,0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Bioenergia w Pol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dział nośników energii odnawialnej w produkcji ciepła w 2013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907000"/>
          </a:xfrm>
          <a:prstGeom prst="rect">
            <a:avLst/>
          </a:prstGeom>
          <a:ln w="0">
            <a:noFill/>
          </a:ln>
        </p:spPr>
      </p:pic>
      <p:sp>
        <p:nvSpPr>
          <p:cNvPr id="103" name="Prostokąt 3"/>
          <p:cNvSpPr/>
          <p:nvPr/>
        </p:nvSpPr>
        <p:spPr>
          <a:xfrm flipV="1" rot="10800000">
            <a:off x="7164000" y="61282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US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3"/>
          <p:cNvSpPr/>
          <p:nvPr/>
        </p:nvSpPr>
        <p:spPr>
          <a:xfrm>
            <a:off x="179280" y="1557360"/>
            <a:ext cx="896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uwagi na małą gęstość i niską wartość opałową biomasa powinna być wykorzystywana w energetyce rozproszonej, (koszty logistyki - 30 - 50% ceny biomas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Produkcja rolnicza na cele energetyczne musi być oceniana kryteriami ekonomicznymi, socjalny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 środowiskowymi (bilanse wodne, bilans gazów cieplarnianych, bilans energii, bioróżnorodność, krajobraz itp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. Plantacje „energetyczne” pozwolą zagospodarować powierzchnię obszarów wyłączonych z tradycyjnej produkcji rolniczej oraz gruntów marginalnych. Stanowić też mogą źródło dodatkowego przychodu i miejsce pracy dla mieszkańców w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Logo Polbiom"/>
          <p:cNvPicPr/>
          <p:nvPr/>
        </p:nvPicPr>
        <p:blipFill>
          <a:blip r:embed="rId1"/>
          <a:stretch/>
        </p:blipFill>
        <p:spPr>
          <a:xfrm>
            <a:off x="7858080" y="0"/>
            <a:ext cx="1258920" cy="92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lag_yellow_low"/>
          <p:cNvPicPr/>
          <p:nvPr/>
        </p:nvPicPr>
        <p:blipFill>
          <a:blip r:embed="rId2"/>
          <a:stretch/>
        </p:blipFill>
        <p:spPr>
          <a:xfrm>
            <a:off x="250920" y="6006960"/>
            <a:ext cx="1152360" cy="77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866600" y="2276640"/>
            <a:ext cx="546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rial"/>
              </a:rPr>
              <a:t>Anna Grzyb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Istota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równoważona produkcja bioenergii w UE powinna być w dalszym ciągu rozwijana  by osiągnąć cele 20-20-20. Projekt FORBIO zademonstruje rentowność użycia ziemi w państwach UE dla wytwarzania surowców do produkcji bioenergii bez konkurencji z produkcją żywności oraz bez wykorzystywania gruntów obecnie użytkowanych do celów rekreacyjnych lub ochrony środowiska. Rozwini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etodę oceny potencjału produkcji bioenergii z surowców wyprodukowanych na dostępnych gruntach niewykorzystywanych rolnicz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zanieczyszczonych, ugorach, itp.) na poziomie krajowym i lokalnym. W tym kontekście będą opracowane  studia wykonalności w trzech państwach (Włoszech, Niemczech i Ukrainie). Ustalone zostaną podstawy  do budowy lokalnych łańcuchów produkcji bioenergii, które spełnią standardy zrównoważoności oraz polepszą efektywność już istniejących łańcuchów poprzez opracowanie map drogowych dla rozwoju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32840" y="260280"/>
            <a:ext cx="34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rtnerz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052640"/>
          <a:ext cx="8569080" cy="4475160"/>
        </p:xfrm>
        <a:graphic>
          <a:graphicData uri="http://schemas.openxmlformats.org/drawingml/2006/table">
            <a:tbl>
              <a:tblPr/>
              <a:tblGrid>
                <a:gridCol w="476280"/>
                <a:gridCol w="4852800"/>
                <a:gridCol w="2211480"/>
                <a:gridCol w="1028520"/>
              </a:tblGrid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nardo Environmental Technologies Ltd. (GE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ęg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nd Agriculture Organization of the United Nations (FA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międzynaro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P – Renewable Energies Wirtchaft &amp; Infrastructur GmbH &amp; Co Planungs KG (WI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glio per la Ricerca in Agricoltura e l’Analisi dell’Economia Agraria (CRE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zna 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chemtex AGRO (BCX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ża fi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oc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smith Initiative (B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międzynaro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elka Bryt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Engineering Centre „Biomass” Ltd. (SECB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for Promotion of Clean and Efficient Energy (ENER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Ś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mu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schungsinstitut fur Bergbaufolgelandschaften e.V. (FI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kie Towarzystwo Biomasy (POLBIO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pozarzą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Landsowners’ Organization (EL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pozarząd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of Limerick (U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ja badawc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la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1"/>
          <p:cNvSpPr/>
          <p:nvPr/>
        </p:nvSpPr>
        <p:spPr>
          <a:xfrm>
            <a:off x="2195640" y="40464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ło i wyz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3"/>
          <p:cNvSpPr/>
          <p:nvPr/>
        </p:nvSpPr>
        <p:spPr>
          <a:xfrm>
            <a:off x="0" y="1235160"/>
            <a:ext cx="9144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tnieje wiele barier utrudniających wprowadzenie na rynek wyprodukowanej i zrównoważonej bioenerg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tyczy to ograniczonej koordynacji polityk w dziedzinach bezpośrednio istotnych dla sektora bioenergii, np. rolnictwa, energetyki i środowisk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rajach docelowych projektu, FORBIO będzie sprzyjać większej spójności polityki w tych dziedzinach poprzez organizowanie konsultacji i ułatwianie wymiany informacji oraz najlepszych praktyk pomiędzy zainteresowanymi stronami ze szczególnym uwzględnieniem decyden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to, dzięki skoncentrowaniu się na gruntach słabo wykorzystywanych i dogłębnej ocenie zagadnień zrównoważonego rozwoju (ekologicznych, społecznych i ekonomicznych), projekt będzie ograniczał ryzyko konkurencji rozwojem bioenergii i i rozwojem rolnictwa oraz bezpieczeństwa żywnościowe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yczyni się to do złagodzenia zmian klimatu i wzmocni inne cele zrównoważonego rozwoju środowiskowego (ekologiczne, społeczne i ekonomiczn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826920" y="5589720"/>
            <a:ext cx="8317080" cy="126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137400" y="26028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03480" y="12160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1216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udziału bioenergii w końcowym zużyciu 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czne redukcje kosztów transakcji w łańcuchach logistycznych surowców i wytwarzania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okryterialna ocena wpływu na środowisko czynników pośrednich związanych z produkcją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konalenie polityk, wspomaganie rozwoju rynku i schematów finansowania w szczególności na rynku krajowym, regionalnym i lokal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368800" y="26028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nowacyjnośc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10526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omaganie usuwania barier innych niż ekonomiczne (poprawa prawodawstwa związanego z bioenergi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lezienie i dopracowanie innowacyjnych rozwiązań organizacyjnych na podstawie doświadczeń poszczególnych kraj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elastycznych metod finansowania w łańcuchu produkcji surowców oraz bioenerg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rowadzenie ocen zrównoważoności  dla rozwiąz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innowacyjnych łańcuchów logistycz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angażowanie poszczególnych aktorów (producentów, przetwórców, dostawców biomasy, producentów bioenergii) do kreowania i oceny nowych rozwiąz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589720"/>
            <a:ext cx="865080" cy="57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369160" y="26028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pływ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13413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i dobór proponowanych rozwiązań pod kątem ich pozytywnego wpływu na środowisk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metod zagospodarowania gruntów zanieczyszczonych, ziem odłogowanych lub opuszczonych do uprawy surowców roślinnych do produkcji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go FORBIO"/>
          <p:cNvPicPr/>
          <p:nvPr/>
        </p:nvPicPr>
        <p:blipFill>
          <a:blip r:embed="rId1"/>
          <a:stretch/>
        </p:blipFill>
        <p:spPr>
          <a:xfrm>
            <a:off x="250920" y="0"/>
            <a:ext cx="2133360" cy="62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Logo Polbiom"/>
          <p:cNvPicPr/>
          <p:nvPr/>
        </p:nvPicPr>
        <p:blipFill>
          <a:blip r:embed="rId2"/>
          <a:stretch/>
        </p:blipFill>
        <p:spPr>
          <a:xfrm>
            <a:off x="7596360" y="0"/>
            <a:ext cx="1258560" cy="92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FORBIO_logoblock_horizontal"/>
          <p:cNvPicPr/>
          <p:nvPr/>
        </p:nvPicPr>
        <p:blipFill>
          <a:blip r:embed="rId3"/>
          <a:stretch/>
        </p:blipFill>
        <p:spPr>
          <a:xfrm>
            <a:off x="1116000" y="5589720"/>
            <a:ext cx="8028000" cy="111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lag_yellow_low"/>
          <p:cNvPicPr/>
          <p:nvPr/>
        </p:nvPicPr>
        <p:blipFill>
          <a:blip r:embed="rId4"/>
          <a:stretch/>
        </p:blipFill>
        <p:spPr>
          <a:xfrm>
            <a:off x="250920" y="5734080"/>
            <a:ext cx="865080" cy="574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52000" y="6308640"/>
            <a:ext cx="81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omisja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pejs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10400" y="260280"/>
            <a:ext cx="47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pływ na społeczeńs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0" y="141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konkurencyjne wykorzystanie zasobów ziemi względem produkcji żywności lub paszy dla uprawy biosurowców do produkcji bioener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kultywacja terenów z ziemiami zanieczyszczonymi, opuszczonymi kopalniami odkrywkowymi lub nieużyt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worzenie nowych miejsc pracy w obszarach przekształconych do produkcji biosurowców oraz w miejscach produkcji bioenreg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stosowanie reguł zielonej ekonomii w prakty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Udział nośników energii odnawialnej w produkcji energii elektrycznej w 2013r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US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Biopaliwa stałe          Wiatr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5,18%           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od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4,29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%        Biog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,04%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03200" y="1249200"/>
            <a:ext cx="8209080" cy="4124520"/>
          </a:xfrm>
          <a:prstGeom prst="rect">
            <a:avLst/>
          </a:prstGeom>
          <a:ln w="0">
            <a:noFill/>
          </a:ln>
        </p:spPr>
      </p:pic>
      <p:cxnSp>
        <p:nvCxnSpPr>
          <p:cNvPr id="95" name="Łącznik prosty ze strzałką 4"/>
          <p:cNvCxnSpPr/>
          <p:nvPr/>
        </p:nvCxnSpPr>
        <p:spPr>
          <a:xfrm>
            <a:off x="1476000" y="436320"/>
            <a:ext cx="1778760" cy="249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6" name="Łącznik prosty ze strzałką 10"/>
          <p:cNvCxnSpPr/>
          <p:nvPr/>
        </p:nvCxnSpPr>
        <p:spPr>
          <a:xfrm>
            <a:off x="5030280" y="436680"/>
            <a:ext cx="335880" cy="1249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7" name="Łącznik prosty ze strzałką 12"/>
          <p:cNvCxnSpPr/>
          <p:nvPr/>
        </p:nvCxnSpPr>
        <p:spPr>
          <a:xfrm flipH="1">
            <a:off x="6803640" y="409680"/>
            <a:ext cx="505440" cy="2156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8" name="Łącznik prosty ze strzałką 14"/>
          <p:cNvCxnSpPr/>
          <p:nvPr/>
        </p:nvCxnSpPr>
        <p:spPr>
          <a:xfrm flipH="1">
            <a:off x="6443280" y="806400"/>
            <a:ext cx="1945440" cy="2983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99" name="Prostokąt 22"/>
          <p:cNvSpPr/>
          <p:nvPr/>
        </p:nvSpPr>
        <p:spPr>
          <a:xfrm flipH="1">
            <a:off x="610560" y="4366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6,4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37:04Z</dcterms:created>
  <dc:creator>MAREK1</dc:creator>
  <dc:description/>
  <dc:language>en-US</dc:language>
  <cp:lastModifiedBy>alojzy</cp:lastModifiedBy>
  <dcterms:modified xsi:type="dcterms:W3CDTF">2016-05-08T19:39:36Z</dcterms:modified>
  <cp:revision>24</cp:revision>
  <dc:subject/>
  <dc:title>Promowanie zrównoważonej produkcji surowców dla zaawansowanych biopaliw na gruntach niewykorzystanych w Europie</dc:title>
</cp:coreProperties>
</file>