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6-06-18T15:26:27.247000000" idx="1">
    <p:pos x="5178" y="1650"/>
    <p:text>Nicoleta is this an incentive (e.g. tax break etc.) or is it a subsidy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8bd0d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1" marL="1440" indent="-1440">
              <a:spcBef>
                <a:spcPts val="700"/>
              </a:spcBef>
              <a:buClr>
                <a:srgbClr val="595854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2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3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4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5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6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2" name="Szövegdoboz 7"/>
          <p:cNvSpPr/>
          <p:nvPr/>
        </p:nvSpPr>
        <p:spPr>
          <a:xfrm>
            <a:off x="1116000" y="638172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854"/>
                </a:solidFill>
                <a:latin typeface="Calibri Light"/>
              </a:rPr>
              <a:t>Acest proiect a primit finantare prin programul de cercetare-inovare al Uniunii Europene ORIZONT 2020, contract  nt 691846.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</p:txBody>
      </p:sp>
      <p:pic>
        <p:nvPicPr>
          <p:cNvPr id="3" name="Kép 8" descr="forbio_logo-01.jpg"/>
          <p:cNvPicPr/>
          <p:nvPr/>
        </p:nvPicPr>
        <p:blipFill>
          <a:blip r:embed="rId2"/>
          <a:stretch/>
        </p:blipFill>
        <p:spPr>
          <a:xfrm>
            <a:off x="7236000" y="142920"/>
            <a:ext cx="1739880" cy="549360"/>
          </a:xfrm>
          <a:prstGeom prst="rect">
            <a:avLst/>
          </a:prstGeom>
          <a:ln w="0">
            <a:noFill/>
          </a:ln>
        </p:spPr>
      </p:pic>
      <p:pic>
        <p:nvPicPr>
          <p:cNvPr id="4" name="Kép 6" descr="flag_2colors.jpg"/>
          <p:cNvPicPr/>
          <p:nvPr/>
        </p:nvPicPr>
        <p:blipFill>
          <a:blip r:embed="rId3"/>
          <a:stretch/>
        </p:blipFill>
        <p:spPr>
          <a:xfrm>
            <a:off x="468360" y="6359400"/>
            <a:ext cx="574560" cy="3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zövegdoboz 7"/>
          <p:cNvSpPr/>
          <p:nvPr/>
        </p:nvSpPr>
        <p:spPr>
          <a:xfrm>
            <a:off x="1116000" y="626904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854"/>
                </a:solidFill>
                <a:latin typeface="Calibri Light"/>
              </a:rPr>
              <a:t>This project has received funding from the European Union's Horizon 2020 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854"/>
                </a:solidFill>
                <a:latin typeface="Calibri Light"/>
              </a:rPr>
              <a:t>research and innovation programme under grant agreement No691846.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</p:txBody>
      </p:sp>
      <p:pic>
        <p:nvPicPr>
          <p:cNvPr id="42" name="Kép 8" descr="forbio_logo-01.jpg"/>
          <p:cNvPicPr/>
          <p:nvPr/>
        </p:nvPicPr>
        <p:blipFill>
          <a:blip r:embed="rId2"/>
          <a:stretch/>
        </p:blipFill>
        <p:spPr>
          <a:xfrm>
            <a:off x="7236000" y="142920"/>
            <a:ext cx="1739880" cy="549360"/>
          </a:xfrm>
          <a:prstGeom prst="rect">
            <a:avLst/>
          </a:prstGeom>
          <a:ln w="0">
            <a:noFill/>
          </a:ln>
        </p:spPr>
      </p:pic>
      <p:pic>
        <p:nvPicPr>
          <p:cNvPr id="43" name="Kép 6" descr="flag_2colors.jpg"/>
          <p:cNvPicPr/>
          <p:nvPr/>
        </p:nvPicPr>
        <p:blipFill>
          <a:blip r:embed="rId3"/>
          <a:stretch/>
        </p:blipFill>
        <p:spPr>
          <a:xfrm>
            <a:off x="468360" y="6286680"/>
            <a:ext cx="574560" cy="382320"/>
          </a:xfrm>
          <a:prstGeom prst="rect">
            <a:avLst/>
          </a:prstGeom>
          <a:ln w="0">
            <a:noFill/>
          </a:ln>
        </p:spPr>
      </p:pic>
      <p:pic>
        <p:nvPicPr>
          <p:cNvPr id="44" name="Kép 12" descr="infographic_ppt800_600-01.jpg"/>
          <p:cNvPicPr/>
          <p:nvPr/>
        </p:nvPicPr>
        <p:blipFill>
          <a:blip r:embed="rId4"/>
          <a:stretch/>
        </p:blipFill>
        <p:spPr>
          <a:xfrm>
            <a:off x="-181080" y="-27000"/>
            <a:ext cx="9253800" cy="6943680"/>
          </a:xfrm>
          <a:prstGeom prst="rect">
            <a:avLst/>
          </a:prstGeom>
          <a:ln w="0">
            <a:noFill/>
          </a:ln>
        </p:spPr>
      </p:pic>
      <p:sp>
        <p:nvSpPr>
          <p:cNvPr id="45" name="Szövegdoboz 15"/>
          <p:cNvSpPr/>
          <p:nvPr/>
        </p:nvSpPr>
        <p:spPr>
          <a:xfrm>
            <a:off x="1116000" y="6269040"/>
            <a:ext cx="75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 Light"/>
              </a:rPr>
              <a:t>Acest proiect a primit finantare prin Programul de Cercetare si Inovare al Uniunii Europene 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 Light"/>
              </a:rPr>
              <a:t>ORIZONT2020, confrom Contractului de finantare nr. 691846.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</p:txBody>
      </p:sp>
      <p:pic>
        <p:nvPicPr>
          <p:cNvPr id="46" name="Kép 16" descr="flag_2colors.jpg"/>
          <p:cNvPicPr/>
          <p:nvPr/>
        </p:nvPicPr>
        <p:blipFill>
          <a:blip r:embed="rId5"/>
          <a:stretch/>
        </p:blipFill>
        <p:spPr>
          <a:xfrm>
            <a:off x="468360" y="6286680"/>
            <a:ext cx="574560" cy="38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8bd0d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1" marL="1440" indent="-1440">
              <a:spcBef>
                <a:spcPts val="700"/>
              </a:spcBef>
              <a:buClr>
                <a:srgbClr val="595854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2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3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4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5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6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7"/>
          <p:cNvSpPr/>
          <p:nvPr/>
        </p:nvSpPr>
        <p:spPr>
          <a:xfrm>
            <a:off x="1116000" y="626904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854"/>
                </a:solidFill>
                <a:latin typeface="Calibri Light"/>
              </a:rPr>
              <a:t>This project has received funding from the European Union's Horizon 2020 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854"/>
                </a:solidFill>
                <a:latin typeface="Calibri Light"/>
              </a:rPr>
              <a:t>research and innovation programme under grant agreement No691846.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</p:txBody>
      </p:sp>
      <p:pic>
        <p:nvPicPr>
          <p:cNvPr id="86" name="Kép 8" descr="forbio_logo-01.jpg"/>
          <p:cNvPicPr/>
          <p:nvPr/>
        </p:nvPicPr>
        <p:blipFill>
          <a:blip r:embed="rId2"/>
          <a:stretch/>
        </p:blipFill>
        <p:spPr>
          <a:xfrm>
            <a:off x="7236000" y="142920"/>
            <a:ext cx="173988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Kép 6" descr="flag_2colors.jpg"/>
          <p:cNvPicPr/>
          <p:nvPr/>
        </p:nvPicPr>
        <p:blipFill>
          <a:blip r:embed="rId3"/>
          <a:stretch/>
        </p:blipFill>
        <p:spPr>
          <a:xfrm>
            <a:off x="468360" y="6286680"/>
            <a:ext cx="574560" cy="382320"/>
          </a:xfrm>
          <a:prstGeom prst="rect">
            <a:avLst/>
          </a:prstGeom>
          <a:ln w="0">
            <a:noFill/>
          </a:ln>
        </p:spPr>
      </p:pic>
      <p:pic>
        <p:nvPicPr>
          <p:cNvPr id="88" name="Kép 8" descr="infographic_ppt800_600_2-0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9"/>
          <p:cNvSpPr/>
          <p:nvPr/>
        </p:nvSpPr>
        <p:spPr>
          <a:xfrm>
            <a:off x="1116000" y="626904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 Light"/>
              </a:rPr>
              <a:t>This project has received funding from the European Union's Horizon 2020 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 Light"/>
              </a:rPr>
              <a:t>research and innovation programme under grant agreement No691846.</a:t>
            </a:r>
            <a:endParaRPr b="0" lang="en-US" sz="1000" spc="-1" strike="noStrike">
              <a:solidFill>
                <a:srgbClr val="595854"/>
              </a:solidFill>
              <a:latin typeface="Calibri"/>
            </a:endParaRPr>
          </a:p>
        </p:txBody>
      </p:sp>
      <p:pic>
        <p:nvPicPr>
          <p:cNvPr id="90" name="Kép 10" descr="flag_2colors.jpg"/>
          <p:cNvPicPr/>
          <p:nvPr/>
        </p:nvPicPr>
        <p:blipFill>
          <a:blip r:embed="rId5"/>
          <a:stretch/>
        </p:blipFill>
        <p:spPr>
          <a:xfrm>
            <a:off x="468360" y="6286680"/>
            <a:ext cx="574560" cy="382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8bd0d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1" marL="1440" indent="-1440">
              <a:spcBef>
                <a:spcPts val="700"/>
              </a:spcBef>
              <a:buClr>
                <a:srgbClr val="595854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econd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2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Third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3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Four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4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Fif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5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ix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  <a:p>
            <a:pPr lvl="6" marL="1440" indent="-1440">
              <a:spcBef>
                <a:spcPts val="700"/>
              </a:spcBef>
              <a:buClr>
                <a:srgbClr val="59585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854"/>
                </a:solidFill>
                <a:latin typeface="Calibri Light"/>
              </a:rPr>
              <a:t>Seventh Outline Level</a:t>
            </a:r>
            <a:endParaRPr b="0" lang="en-US" sz="2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rbio-project.e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rbio-project.eu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91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8bd0d"/>
                </a:solidFill>
                <a:latin typeface="Calibri Light"/>
              </a:rPr>
              <a:t>Promovarea stocurilor sustenabile pentru producerea de biocombustibili avansati pe terenurile neutilizate din Europa (Acronim </a:t>
            </a:r>
            <a:r>
              <a:rPr b="1" lang="it-IT" sz="3200" spc="-1" strike="noStrike" u="sng">
                <a:solidFill>
                  <a:srgbClr val="ff6c2c"/>
                </a:solidFill>
                <a:uFillTx/>
                <a:latin typeface="Calibri Light"/>
                <a:hlinkClick r:id="rId1"/>
              </a:rPr>
              <a:t>FORBIO</a:t>
            </a:r>
            <a:r>
              <a:rPr b="1" lang="it-IT" sz="3200" spc="-1" strike="noStrike">
                <a:solidFill>
                  <a:srgbClr val="88bd0d"/>
                </a:solidFill>
                <a:latin typeface="Calibri Light"/>
              </a:rPr>
              <a:t>)</a:t>
            </a:r>
            <a:r>
              <a:rPr b="0" lang="en-US" sz="3200" spc="-1" strike="noStrike">
                <a:solidFill>
                  <a:srgbClr val="88bd0d"/>
                </a:solidFill>
                <a:latin typeface="Calibri Light"/>
              </a:rPr>
              <a:t> </a:t>
            </a:r>
            <a:endParaRPr b="0" lang="en-US" sz="32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4920" y="4005360"/>
            <a:ext cx="79218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bd0d"/>
                </a:solidFill>
                <a:latin typeface="Calibri"/>
              </a:rPr>
              <a:t>Targul RoEnergy 2017, Bucuresti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bd0d"/>
                </a:solidFill>
                <a:latin typeface="Calibri"/>
              </a:rPr>
              <a:t>Autori: </a:t>
            </a:r>
            <a:r>
              <a:rPr b="0" lang="it-IT" sz="1800" spc="-1" strike="noStrike">
                <a:solidFill>
                  <a:srgbClr val="88bd0d"/>
                </a:solidFill>
                <a:latin typeface="Calibri"/>
              </a:rPr>
              <a:t>Cristian Tantareanu , Nicoleta Ion (ENERO)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8bd0d"/>
                </a:solidFill>
                <a:latin typeface="Calibri"/>
              </a:rPr>
              <a:t>Cu  contributia: Dr Rita Mergner – WIP, Muenchen, Germania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8bd0d"/>
                </a:solidFill>
                <a:latin typeface="Calibri"/>
              </a:rPr>
              <a:t>                             </a:t>
            </a:r>
            <a:r>
              <a:rPr b="0" lang="it-IT" sz="1800" spc="-1" strike="noStrike">
                <a:solidFill>
                  <a:srgbClr val="88bd0d"/>
                </a:solidFill>
                <a:latin typeface="Calibri"/>
              </a:rPr>
              <a:t>Dr. Dirk Knoche,FIB, Finsterwalde, Germania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8bd0d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216000" y="-771480"/>
            <a:ext cx="9541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6202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854"/>
                </a:solidFill>
                <a:latin typeface="Arial"/>
              </a:rPr>
              <a:t>Campuri de irigare si filtare  - Potential pentru productia de biomasa din cele mai promitatoare culturi energetice</a:t>
            </a:r>
            <a:endParaRPr b="0" lang="en-US" sz="1800" spc="-1" strike="noStrike">
              <a:solidFill>
                <a:srgbClr val="59585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85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595854"/>
                </a:solidFill>
                <a:latin typeface="Arial"/>
              </a:rPr>
              <a:t>(Raport asupra fezabilitatii agronomice, FIB, 2016)</a:t>
            </a:r>
            <a:endParaRPr b="0" lang="en-US" sz="1800" spc="-1" strike="noStrike">
              <a:solidFill>
                <a:srgbClr val="595854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8800" y="1700280"/>
          <a:ext cx="8503920" cy="4392360"/>
        </p:xfrm>
        <a:graphic>
          <a:graphicData uri="http://schemas.openxmlformats.org/drawingml/2006/table">
            <a:tbl>
              <a:tblPr/>
              <a:tblGrid>
                <a:gridCol w="2834640"/>
                <a:gridCol w="2834640"/>
                <a:gridCol w="28346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Culturi anuale si peren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roductia de biomas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t</a:t>
                      </a:r>
                      <a:r>
                        <a:rPr b="1" lang="es-ES" sz="1200" spc="-1" strike="noStrike" baseline="-30000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.u.</a:t>
                      </a: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 ha</a:t>
                      </a:r>
                      <a:r>
                        <a:rPr b="1" lang="es-ES" sz="1200" spc="-1" strike="noStrike" baseline="30000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n</a:t>
                      </a:r>
                      <a:r>
                        <a:rPr b="1" lang="es-ES" sz="1200" spc="-1" strike="noStrike" baseline="30000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Observati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org furajer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Sorghum bicolor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3-16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rimele experiente de cultivare pe foste terenuri de irigare si filtrare din zona Berlin-Brandenburg sunt promitatoar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arba de Sudan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orghum sudanese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8-17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rimele experiente de cultivare pe foste terenuri de irigare si filtrare din zona Berlin-Brandenburg sunt promitatoar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Miscanthus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Miscanthus giganteus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n acest moment nu exista experinet pe acest tip de teren. Este totusi o cultura promitatoare si va fi testat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lanta Cup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ilphium perfoliatum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3-18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n acest moment nu exista experinet pe acest tip de teren. Este totusi o cultura promitatoare, datorita productivitatii bune pe alte terenur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arba energetic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Deja existenta, cultivata pentru conservarea peisajulu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-1119240" y="-433440"/>
            <a:ext cx="11382480" cy="77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1133640" y="-490680"/>
            <a:ext cx="11411280" cy="78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38320" y="-490680"/>
            <a:ext cx="11420640" cy="78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2028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854"/>
                </a:solidFill>
                <a:latin typeface="Arial"/>
              </a:rPr>
              <a:t>Foste mine de lignit  - Potential pentru productia de biomasa din cele mai promitatoare culturi energetice</a:t>
            </a:r>
            <a:endParaRPr b="0" lang="en-US" sz="1800" spc="-1" strike="noStrike">
              <a:solidFill>
                <a:srgbClr val="595854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9585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595854"/>
                </a:solidFill>
                <a:latin typeface="Arial"/>
              </a:rPr>
              <a:t>(Raport asupra fezabilitatii agronomice, FIB, 2016)</a:t>
            </a:r>
            <a:endParaRPr b="0" lang="en-US" sz="1800" spc="-1" strike="noStrike">
              <a:solidFill>
                <a:srgbClr val="595854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736640"/>
          <a:ext cx="8505360" cy="4428720"/>
        </p:xfrm>
        <a:graphic>
          <a:graphicData uri="http://schemas.openxmlformats.org/drawingml/2006/table">
            <a:tbl>
              <a:tblPr/>
              <a:tblGrid>
                <a:gridCol w="2835000"/>
                <a:gridCol w="2835360"/>
                <a:gridCol w="283500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Culturi anuale si peren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roductia de biomas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t</a:t>
                      </a:r>
                      <a:r>
                        <a:rPr b="1" lang="es-ES" sz="1200" spc="-1" strike="noStrike" baseline="-30000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.u.</a:t>
                      </a: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 ha</a:t>
                      </a:r>
                      <a:r>
                        <a:rPr b="1" lang="es-ES" sz="1200" spc="-1" strike="noStrike" baseline="30000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n</a:t>
                      </a:r>
                      <a:r>
                        <a:rPr b="1" lang="es-ES" sz="1200" spc="-1" strike="noStrike" baseline="30000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Observati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org furajer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Sorghum bicolor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3-17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lternativa profitabila la porumb, experienta in cultivarea pe terenuri reabilitat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arba de Sudan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orghum sudanese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8-17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Experiente promitatoare  pe terenuri marginal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ecar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Secale cereale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Element important in rotatia culturilor, nepretentios pe terenuri nisipoas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Grau de iarn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pt-BR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Tritucum aestivum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7-9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Element important in rotatia culturilor, rezistent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Lucern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Medicago sativa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-17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uto-regenerativa, imporanta pentru restabilirea functiilor solului, pe suprafetele reabilitate, productivitatea depinde de vechimea reabilitarii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alcamul 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(Robinia pseudoacacia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-11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Experienta buna in cultivarea pe terenuri reabilitate, cu continut scazut de humus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ím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8bd0d"/>
                </a:solidFill>
                <a:latin typeface="Calibri Light"/>
              </a:rPr>
              <a:t>Optiunea 1 - Cost Miscanthus</a:t>
            </a:r>
            <a:endParaRPr b="0" lang="en-US" sz="4000" spc="-1" strike="noStrike">
              <a:solidFill>
                <a:srgbClr val="595854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1341360"/>
          <a:ext cx="7993080" cy="4824000"/>
        </p:xfrm>
        <a:graphic>
          <a:graphicData uri="http://schemas.openxmlformats.org/drawingml/2006/table">
            <a:tbl>
              <a:tblPr/>
              <a:tblGrid>
                <a:gridCol w="3996720"/>
                <a:gridCol w="399636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uro/ha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livire mecanizata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ratura 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emanat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lantare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Rizomi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Replantare 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Rizomi pentru replantare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Plivire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Mentenanta 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3232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ím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8bd0d"/>
                </a:solidFill>
                <a:latin typeface="Calibri Light"/>
              </a:rPr>
              <a:t>Optiunea 1 – Miscanthus</a:t>
            </a:r>
            <a:br>
              <a:rPr sz="4000"/>
            </a:br>
            <a:r>
              <a:rPr b="0" lang="en-US" sz="2000" spc="-1" strike="noStrike">
                <a:solidFill>
                  <a:srgbClr val="88bd0d"/>
                </a:solidFill>
                <a:latin typeface="Calibri Light"/>
              </a:rPr>
              <a:t>Costuri pentru cultivarea Miscanthus pe 20 ani productivi</a:t>
            </a:r>
            <a:br>
              <a:rPr sz="2000"/>
            </a:br>
            <a:endParaRPr b="0" lang="en-US" sz="2000" spc="-1" strike="noStrike">
              <a:solidFill>
                <a:srgbClr val="595854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8800" y="1282680"/>
          <a:ext cx="8143920" cy="50245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Stabilirea plantatiei de miscanthus (o data in 20 ani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140 ha (3208 E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3.208*1.140=365.7120 Euro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nchiriere teren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0 Euro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Intretinere anuala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Servicii de intretinere (24 Euro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140*24=27360 Euro/an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Logistica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Recoltare (278 Euro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78*1.140=316.920 Euro/an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Transport (de pe teren la clientul final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3 km (Ludwigsfelde, 500 ha, 113 Euro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5.820 Euro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9 km (Konigs Wusterhausen, 500 ha, 276 Euro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38.000 Euro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3 km (Henningsdorf, 140 ha, 314 Euro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57.000 Euro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Cea mai buna optiune 3 km (Ludwigsfelde, 500 ha, 113 Euro/ha)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28.820  Euro/an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3.119.120</a:t>
                      </a:r>
                      <a:endParaRPr b="0" lang="en-US" sz="14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ím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8bd0d"/>
                </a:solidFill>
                <a:latin typeface="Calibri Light"/>
              </a:rPr>
              <a:t>Optiunea 1 – Miscanthus</a:t>
            </a:r>
            <a:br>
              <a:rPr sz="4000"/>
            </a:br>
            <a:r>
              <a:rPr b="0" lang="it-IT" sz="2000" spc="-1" strike="noStrike">
                <a:solidFill>
                  <a:srgbClr val="88bd0d"/>
                </a:solidFill>
                <a:latin typeface="Calibri Light"/>
              </a:rPr>
              <a:t>Venituri potentiale din vanzarea fulgilor de Miscanthus pentru 20 ani </a:t>
            </a:r>
            <a:r>
              <a:rPr b="0" lang="en-US" sz="2000" spc="-1" strike="noStrike">
                <a:solidFill>
                  <a:srgbClr val="88bd0d"/>
                </a:solidFill>
                <a:latin typeface="Calibri Light"/>
              </a:rPr>
              <a:t> </a:t>
            </a:r>
            <a:endParaRPr b="0" lang="en-US" sz="2000" spc="-1" strike="noStrike">
              <a:solidFill>
                <a:srgbClr val="595854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8800" y="1628640"/>
          <a:ext cx="8430840" cy="3960720"/>
        </p:xfrm>
        <a:graphic>
          <a:graphicData uri="http://schemas.openxmlformats.org/drawingml/2006/table">
            <a:tbl>
              <a:tblPr/>
              <a:tblGrid>
                <a:gridCol w="3798360"/>
                <a:gridCol w="417960"/>
                <a:gridCol w="4214520"/>
              </a:tblGrid>
              <a:tr h="475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anzarea chipsurilor de Miscanthus (80 Euro/t/S.U.)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l doilea an (5.700 t)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456.000 Euro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Din al treilea an (17.100 t)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.368.000 Euro/an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Venit total in 20 ani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6.446.000 Euro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anzarea chipsurilor de Miscanthus (50 Euro/t/S.U.)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Al doilea an 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85.000 Euro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96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Din al treilea an 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885.000 Euro/an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Venit total in 20 ani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6.530.000 Euro</a:t>
                      </a: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ím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88bd0d"/>
                </a:solidFill>
                <a:latin typeface="Calibri Light"/>
              </a:rPr>
              <a:t>Optiunea 2 – Miscanthus – Centrala noua de cogenerare</a:t>
            </a:r>
            <a:br>
              <a:rPr sz="4000"/>
            </a:br>
            <a:endParaRPr b="0" lang="en-US" sz="4000" spc="-1" strike="noStrike">
              <a:solidFill>
                <a:srgbClr val="595854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8800" y="1484280"/>
          <a:ext cx="8366040" cy="2465280"/>
        </p:xfrm>
        <a:graphic>
          <a:graphicData uri="http://schemas.openxmlformats.org/drawingml/2006/table">
            <a:tbl>
              <a:tblPr/>
              <a:tblGrid>
                <a:gridCol w="4183200"/>
                <a:gridCol w="418284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Centrala de cogenerare pe biomasa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Cost total investitie pentru o noua centrala de cogenerare (3.6 MW, 4.200 Euro/MW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&gt;15 mil. Euro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Costuri de operare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 Depunerea cenusii, electricitate, service, etc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00.000 Euro/an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 Personal (6 angajati, fulltime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500.000 Euro/an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- Alimentare cu materie prima, intretinere anuala si logistica pt 20 an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13.119.120 Euro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Costuri totale pentru 20 an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40.119.120 Euro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652840" y="4149720"/>
          <a:ext cx="6095880" cy="146052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Vanzari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Vanzare energie electrica (0,1488 Euro/kWh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4,4 mil Euro/an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Vanzare energie termica (0.05-0.09 Euro/kWh)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2,2-3,9 Euro/an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595854"/>
                          </a:solidFill>
                          <a:latin typeface="Arial"/>
                          <a:ea typeface="Times New Roman"/>
                        </a:rPr>
                        <a:t>Venit total in 20 ani                                                      88 mil Euro</a:t>
                      </a:r>
                      <a:endParaRPr b="0" lang="en-US" sz="12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9585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bd0d"/>
                </a:solidFill>
                <a:latin typeface="Calibri Light"/>
              </a:rPr>
              <a:t>Promovarea stocurilor sustenabile pentru producerea de biocombustibili avansati pe terenurile neutilizate din Europa (Acronim </a:t>
            </a:r>
            <a:r>
              <a:rPr b="0" lang="en-US" sz="2400" spc="-1" strike="noStrike" u="sng">
                <a:solidFill>
                  <a:srgbClr val="ff6c2c"/>
                </a:solidFill>
                <a:uFillTx/>
                <a:latin typeface="Calibri Light"/>
                <a:hlinkClick r:id="rId1"/>
              </a:rPr>
              <a:t>FORBIO</a:t>
            </a:r>
            <a:r>
              <a:rPr b="1" lang="en-US" sz="2400" spc="-1" strike="noStrike">
                <a:solidFill>
                  <a:srgbClr val="88bd0d"/>
                </a:solidFill>
                <a:latin typeface="Calibri Light"/>
              </a:rPr>
              <a:t>)</a:t>
            </a:r>
            <a:r>
              <a:rPr b="0" lang="en-US" sz="2400" spc="-1" strike="noStrike">
                <a:solidFill>
                  <a:srgbClr val="88bd0d"/>
                </a:solidFill>
                <a:latin typeface="Calibri Light"/>
              </a:rPr>
              <a:t> </a:t>
            </a:r>
            <a:endParaRPr b="0" lang="en-US" sz="24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FORBIO analizeaza fezabilitatea utilizarii terenurilor marginale in pentru producerea de biomasa, </a:t>
            </a:r>
            <a:r>
              <a:rPr b="1" lang="en-GB" sz="2000" spc="-1" strike="noStrike">
                <a:solidFill>
                  <a:srgbClr val="595854"/>
                </a:solidFill>
                <a:latin typeface="Calibri Light"/>
              </a:rPr>
              <a:t>fara a interfera</a:t>
            </a: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 cu productia de alimente sau furaje sau cu o eventuala folosinta in scopuri recreative sau de conservare. Studiile de caz se efectueaza in </a:t>
            </a:r>
            <a:r>
              <a:rPr b="1" lang="en-GB" sz="2000" spc="-1" strike="noStrike">
                <a:solidFill>
                  <a:srgbClr val="595854"/>
                </a:solidFill>
                <a:latin typeface="Calibri Light"/>
              </a:rPr>
              <a:t>Italia, Germania si Ucraina</a:t>
            </a: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, iar </a:t>
            </a:r>
            <a:r>
              <a:rPr b="1" lang="en-GB" sz="2000" spc="-1" strike="noStrike">
                <a:solidFill>
                  <a:srgbClr val="595854"/>
                </a:solidFill>
                <a:latin typeface="Calibri Light"/>
              </a:rPr>
              <a:t>Romania</a:t>
            </a: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, Polonia, Irlanda, Polonia, Marea Britanie si Ungaria sunt  “tari de replicare”.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Competitia cu alte utilizari ale terenului este o componenta a sustenabilitatii bioenergiei si o masura a aspectelor de mediu, sociale si economice care pot sa reprezinte provocari, atunci cand se urmareste respectarea standardelor de sustenabilitate  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854"/>
                </a:solidFill>
                <a:latin typeface="Calibri Light"/>
              </a:rPr>
              <a:t>FORBIO va dezvolta o </a:t>
            </a:r>
            <a:r>
              <a:rPr b="1" lang="en-US" sz="2000" spc="-1" strike="noStrike">
                <a:solidFill>
                  <a:srgbClr val="595854"/>
                </a:solidFill>
                <a:latin typeface="Calibri Light"/>
              </a:rPr>
              <a:t>metodologie de a evalua potentialul de producere a bioenergiei pe terenurile ne-utilizate in Europa</a:t>
            </a:r>
            <a:r>
              <a:rPr b="0" lang="en-US" sz="2000" spc="-1" strike="noStrike">
                <a:solidFill>
                  <a:srgbClr val="595854"/>
                </a:solidFill>
                <a:latin typeface="Calibri Light"/>
              </a:rPr>
              <a:t> (contaminate, abandonate,terenurile lasate parloaga). 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3416040"/>
            <a:ext cx="83516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 Light"/>
              </a:rPr>
              <a:t>REPLICAREA STUDIILOR DE CAZ IN ROMANIA</a:t>
            </a:r>
            <a:endParaRPr b="0" lang="en-US" sz="40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FORBIO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bd0d"/>
                </a:solidFill>
                <a:latin typeface="Calibri Light"/>
              </a:rPr>
              <a:t>I</a:t>
            </a:r>
            <a:r>
              <a:rPr b="1" lang="it-IT" sz="3600" spc="-1" strike="noStrike">
                <a:solidFill>
                  <a:srgbClr val="88bd0d"/>
                </a:solidFill>
                <a:latin typeface="Calibri Light"/>
              </a:rPr>
              <a:t>CAS BRASOV – Aplicatii Rovinari</a:t>
            </a:r>
            <a:endParaRPr b="0" lang="en-US" sz="36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595854"/>
                </a:solidFill>
                <a:latin typeface="Calibri Light"/>
              </a:rPr>
              <a:t>In 2011 s-au efectuat plantaţii pe 1 ha cu Miscanthus pe haldele de la Rovinari: 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595854"/>
                </a:solidFill>
                <a:latin typeface="Calibri Light"/>
              </a:rPr>
              <a:t> </a:t>
            </a:r>
            <a:r>
              <a:rPr b="0" i="1" lang="es-ES" sz="1800" spc="-1" strike="noStrike">
                <a:solidFill>
                  <a:srgbClr val="595854"/>
                </a:solidFill>
                <a:latin typeface="Calibri Light"/>
              </a:rPr>
              <a:t>0,5 ha pe halda de zgură şi cenuşă provenite de la termocentrală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595854"/>
                </a:solidFill>
                <a:latin typeface="Calibri Light"/>
              </a:rPr>
              <a:t> </a:t>
            </a:r>
            <a:r>
              <a:rPr b="0" i="1" lang="es-ES" sz="1800" spc="-1" strike="noStrike">
                <a:solidFill>
                  <a:srgbClr val="595854"/>
                </a:solidFill>
                <a:latin typeface="Calibri Light"/>
              </a:rPr>
              <a:t>0,5 ha pe halda de steril brut provenit din exploatarea de suprafaţă a cărbunilor.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Rezultate</a:t>
            </a:r>
            <a:r>
              <a:rPr b="0" i="1" lang="it-IT" sz="1800" spc="-1" strike="noStrike">
                <a:solidFill>
                  <a:srgbClr val="595854"/>
                </a:solidFill>
                <a:latin typeface="Calibri Light"/>
              </a:rPr>
              <a:t>: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buClr>
                <a:srgbClr val="595854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 </a:t>
            </a: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fixare foarte bună a terenului, împiedicând astfel fenomenul de împrăştiere a prafului fin al solurilor acestora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buClr>
                <a:srgbClr val="595854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 </a:t>
            </a: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durata unei culturi este de aproximativ 25 de ani;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51"/>
              </a:spcBef>
              <a:buClr>
                <a:srgbClr val="595854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 </a:t>
            </a:r>
            <a:r>
              <a:rPr b="0" i="1" lang="fr-FR" sz="1800" spc="-1" strike="noStrike">
                <a:solidFill>
                  <a:srgbClr val="595854"/>
                </a:solidFill>
                <a:latin typeface="Calibri Light"/>
              </a:rPr>
              <a:t>producţia, în condiţii normale, este de 25 t/ha de masă uscată; pe halde, o producţie de 15 t/ha ar fi una foarte bună.</a:t>
            </a:r>
            <a:r>
              <a:rPr b="0" i="1" lang="en-US" sz="1800" spc="-1" strike="noStrike">
                <a:solidFill>
                  <a:srgbClr val="595854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52600"/>
            <a:ext cx="4211640" cy="3200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434040" cy="540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1400" y="479664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595854"/>
                </a:solidFill>
                <a:latin typeface="Arial"/>
              </a:rPr>
              <a:t>Solul haldei de cenusa Rovinari</a:t>
            </a:r>
            <a:endParaRPr b="0" lang="en-US" sz="1800" spc="-1" strike="noStrike">
              <a:solidFill>
                <a:srgbClr val="595854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602100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595854"/>
                </a:solidFill>
                <a:latin typeface="Arial"/>
              </a:rPr>
              <a:t>Miscanthus la 3 luni</a:t>
            </a:r>
            <a:endParaRPr b="0" lang="en-US" sz="1600" spc="-1" strike="noStrike">
              <a:solidFill>
                <a:srgbClr val="595854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396720" y="57337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595854"/>
                </a:solidFill>
                <a:latin typeface="Arial"/>
              </a:rPr>
              <a:t>Sursa: ICAS BV</a:t>
            </a:r>
            <a:endParaRPr b="0" lang="en-US" sz="1600" spc="-1" strike="noStrike">
              <a:solidFill>
                <a:srgbClr val="59585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8bd0d"/>
                </a:solidFill>
                <a:latin typeface="Calibri Light"/>
              </a:rPr>
              <a:t>Comple</a:t>
            </a:r>
            <a:r>
              <a:rPr b="1" lang="it-IT" sz="3600" spc="-1" strike="noStrike">
                <a:solidFill>
                  <a:srgbClr val="88bd0d"/>
                </a:solidFill>
                <a:latin typeface="Calibri Light"/>
              </a:rPr>
              <a:t>xul Energetic Oltenia – plantatii culturi energetice</a:t>
            </a:r>
            <a:endParaRPr b="0" lang="en-US" sz="36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80" indent="-1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– </a:t>
            </a: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prima cultura de Miscanthus Giganteus in judetul Gorj a fost infiintata in anul 2011 pe depozitul de cenusa de la Cicani pe suprafata de 2.500 m2, la E.M.C. Rovinari;</a:t>
            </a:r>
            <a:br>
              <a:rPr sz="1800"/>
            </a:b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– primele rezultate au fost promitatoare, astfel ca in anul 2013, s-a infiintat o cultura de Miscanthus cu o suprafata de 10 ha, pe depozitul de cenusa de la Beterega;</a:t>
            </a:r>
            <a:br>
              <a:rPr sz="1800"/>
            </a:b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– in anul 2014 s-a infiintat o plantatie de Miscanthus pe o suprafata de 10 ha la U.M.C. Pinoasa, halda Negomir.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  <a:p>
            <a:pPr marL="1080" indent="-1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- in prezent, Complexul Energetic Oltenia are in proiect infiintarea unei paduri in zona Negomir. Este vorba de un domeniu silvic </a:t>
            </a:r>
            <a:r>
              <a:rPr b="0" lang="it-IT" sz="1800" spc="-1" strike="noStrike">
                <a:solidFill>
                  <a:srgbClr val="595854"/>
                </a:solidFill>
                <a:latin typeface="Calibri Light"/>
              </a:rPr>
              <a:t>i</a:t>
            </a: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n suprafa</a:t>
            </a:r>
            <a:r>
              <a:rPr b="0" lang="it-IT" sz="1800" spc="-1" strike="noStrike">
                <a:solidFill>
                  <a:srgbClr val="595854"/>
                </a:solidFill>
                <a:latin typeface="Calibri Light"/>
              </a:rPr>
              <a:t>ta</a:t>
            </a: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 de 30 de hectare planta</a:t>
            </a:r>
            <a:r>
              <a:rPr b="0" lang="it-IT" sz="1800" spc="-1" strike="noStrike">
                <a:solidFill>
                  <a:srgbClr val="595854"/>
                </a:solidFill>
                <a:latin typeface="Calibri Light"/>
              </a:rPr>
              <a:t>t</a:t>
            </a: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ie de salc</a:t>
            </a:r>
            <a:r>
              <a:rPr b="0" lang="it-IT" sz="1800" spc="-1" strike="noStrike">
                <a:solidFill>
                  <a:srgbClr val="595854"/>
                </a:solidFill>
                <a:latin typeface="Calibri Light"/>
              </a:rPr>
              <a:t>a</a:t>
            </a:r>
            <a:r>
              <a:rPr b="0" lang="en-US" sz="1800" spc="-1" strike="noStrike">
                <a:solidFill>
                  <a:srgbClr val="595854"/>
                </a:solidFill>
                <a:latin typeface="Calibri Light"/>
              </a:rPr>
              <a:t>m. </a:t>
            </a:r>
            <a:endParaRPr b="0" lang="en-US" sz="18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3357360"/>
            <a:ext cx="6913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8bd0d"/>
                </a:solidFill>
                <a:latin typeface="Calibri Light"/>
              </a:rPr>
              <a:t>MULTUMIM PENTRU ATENTI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1400" spc="-1" strike="noStrike">
                <a:solidFill>
                  <a:srgbClr val="88bd0d"/>
                </a:solidFill>
                <a:latin typeface="Calibri Light"/>
              </a:rPr>
              <a:t>Aces material reflecta doar opinia autorilor. Agentia Executiva pentru inovare si Comisia Europeana nu pot fi facute responsabile pentru modul de utilizare a informatiilor continute in acesta</a:t>
            </a:r>
            <a:endParaRPr b="0" lang="en-US" sz="1400" spc="-1" strike="noStrike">
              <a:solidFill>
                <a:srgbClr val="88bd0d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Grafik 10" descr=""/>
          <p:cNvPicPr/>
          <p:nvPr/>
        </p:nvPicPr>
        <p:blipFill>
          <a:blip r:embed="rId1"/>
          <a:stretch/>
        </p:blipFill>
        <p:spPr>
          <a:xfrm>
            <a:off x="250920" y="447840"/>
            <a:ext cx="69134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Cím 1"/>
          <p:cNvSpPr/>
          <p:nvPr/>
        </p:nvSpPr>
        <p:spPr>
          <a:xfrm>
            <a:off x="395280" y="5383080"/>
            <a:ext cx="82296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854"/>
                </a:solidFill>
                <a:latin typeface="Calibri Light"/>
              </a:rPr>
              <a:t>Lantul de valorificare sustenabila</a:t>
            </a:r>
            <a:r>
              <a:rPr b="0" lang="en-US" sz="1600" spc="-1" strike="noStrike">
                <a:solidFill>
                  <a:srgbClr val="595854"/>
                </a:solidFill>
                <a:latin typeface="Calibri Light"/>
              </a:rPr>
              <a:t> </a:t>
            </a:r>
            <a:endParaRPr b="0" lang="en-US" sz="1600" spc="-1" strike="noStrike">
              <a:solidFill>
                <a:srgbClr val="59585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8bd0d"/>
                </a:solidFill>
                <a:latin typeface="Calibri Light"/>
              </a:rPr>
              <a:t>Parteneri</a:t>
            </a:r>
            <a:endParaRPr b="0" lang="en-US" sz="4400" spc="-1" strike="noStrike">
              <a:solidFill>
                <a:srgbClr val="88bd0d"/>
              </a:solidFill>
              <a:latin typeface="Calibri Light"/>
            </a:endParaRPr>
          </a:p>
        </p:txBody>
      </p:sp>
      <p:pic>
        <p:nvPicPr>
          <p:cNvPr id="136" name="Picture 2" descr="E:\FAO\GBEP Secretariat\EU calls, directives and decisions\Horizon 2020\logoBlockLand.jpg"/>
          <p:cNvPicPr/>
          <p:nvPr/>
        </p:nvPicPr>
        <p:blipFill>
          <a:blip r:embed="rId1"/>
          <a:stretch/>
        </p:blipFill>
        <p:spPr>
          <a:xfrm>
            <a:off x="539640" y="1258920"/>
            <a:ext cx="2651400" cy="4957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854"/>
                </a:solidFill>
                <a:latin typeface="Calibri Light"/>
              </a:rPr>
              <a:t>FORBIO este derulat de catre </a:t>
            </a:r>
            <a:r>
              <a:rPr b="1" lang="it-IT" sz="2000" spc="-1" strike="noStrike">
                <a:solidFill>
                  <a:srgbClr val="595854"/>
                </a:solidFill>
                <a:latin typeface="Calibri Light"/>
              </a:rPr>
              <a:t>11 partneri </a:t>
            </a:r>
            <a:r>
              <a:rPr b="0" lang="it-IT" sz="2000" spc="-1" strike="noStrike">
                <a:solidFill>
                  <a:srgbClr val="595854"/>
                </a:solidFill>
                <a:latin typeface="Calibri Light"/>
              </a:rPr>
              <a:t>din </a:t>
            </a:r>
            <a:r>
              <a:rPr b="1" lang="it-IT" sz="2000" spc="-1" strike="noStrike">
                <a:solidFill>
                  <a:srgbClr val="595854"/>
                </a:solidFill>
                <a:latin typeface="Calibri Light"/>
              </a:rPr>
              <a:t>8 state membre UE + 1 partener din Ucraina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854"/>
                </a:solidFill>
                <a:latin typeface="Calibri Light"/>
              </a:rPr>
              <a:t>A inceput in </a:t>
            </a:r>
            <a:r>
              <a:rPr b="1" lang="it-IT" sz="2000" spc="-1" strike="noStrike">
                <a:solidFill>
                  <a:srgbClr val="595854"/>
                </a:solidFill>
                <a:latin typeface="Calibri Light"/>
              </a:rPr>
              <a:t>ianuarie 2016</a:t>
            </a:r>
            <a:r>
              <a:rPr b="0" lang="it-IT" sz="2000" spc="-1" strike="noStrike">
                <a:solidFill>
                  <a:srgbClr val="595854"/>
                </a:solidFill>
                <a:latin typeface="Calibri Light"/>
              </a:rPr>
              <a:t> si se va finaliza in  </a:t>
            </a:r>
            <a:r>
              <a:rPr b="1" lang="it-IT" sz="2000" spc="-1" strike="noStrike">
                <a:solidFill>
                  <a:srgbClr val="595854"/>
                </a:solidFill>
                <a:latin typeface="Calibri Light"/>
              </a:rPr>
              <a:t>decembrie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854"/>
                </a:solidFill>
                <a:latin typeface="Calibri Light"/>
              </a:rPr>
              <a:t>Coordonatorul proiectului FORBIO este WIP- Energii regenerabile (Germania)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144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3416040"/>
            <a:ext cx="83516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 Light"/>
              </a:rPr>
              <a:t>STUDII DE FEZABILITATE AGRONOMICA SI TEHNICO-ECONOMICA</a:t>
            </a:r>
            <a:endParaRPr b="0" lang="en-US" sz="4000" spc="-1" strike="noStrike">
              <a:solidFill>
                <a:srgbClr val="88bd0d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FORBIO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854"/>
                </a:solidFill>
                <a:latin typeface="Calibri Light"/>
              </a:rPr>
              <a:t>Germania</a:t>
            </a:r>
            <a:endParaRPr b="0" lang="en-US" sz="2400" spc="-1" strike="noStrike">
              <a:solidFill>
                <a:srgbClr val="595854"/>
              </a:solidFill>
              <a:latin typeface="Calibri L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5854"/>
                </a:solidFill>
                <a:latin typeface="Calibri Light"/>
              </a:rPr>
              <a:t>	</a:t>
            </a:r>
            <a:r>
              <a:rPr b="1" lang="en-GB" sz="2400" spc="-1" strike="noStrike">
                <a:solidFill>
                  <a:srgbClr val="595854"/>
                </a:solidFill>
                <a:latin typeface="Calibri Light"/>
              </a:rPr>
              <a:t>- terenuri ale unor foste exploatari miniere de suprafata  din estul Germaniei, desemnate pentru utilizare ca terenuri agricole (15000 ha)</a:t>
            </a:r>
            <a:endParaRPr b="0" lang="en-US" sz="2400" spc="-1" strike="noStrike">
              <a:solidFill>
                <a:srgbClr val="595854"/>
              </a:solidFill>
              <a:latin typeface="Calibri Light"/>
            </a:endParaRPr>
          </a:p>
          <a:p>
            <a:pPr marL="343080" indent="-343080">
              <a:spcBef>
                <a:spcPts val="601"/>
              </a:spcBef>
              <a:buClr>
                <a:srgbClr val="595854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5854"/>
                </a:solidFill>
                <a:latin typeface="Calibri Light"/>
              </a:rPr>
              <a:t>Campuri de irigare si filtrare  din zona Berlin-Brandenburg, desemnate pentru fitoremediere prin cultivarea biomasei pentru energie (10000 ha)</a:t>
            </a:r>
            <a:endParaRPr b="0" lang="en-US" sz="2400" spc="-1" strike="noStrike">
              <a:solidFill>
                <a:srgbClr val="595854"/>
              </a:solidFill>
              <a:latin typeface="Calibri Light"/>
            </a:endParaRPr>
          </a:p>
          <a:p>
            <a:pPr marL="343080" indent="-343080">
              <a:spcBef>
                <a:spcPts val="601"/>
              </a:spcBef>
              <a:buClr>
                <a:srgbClr val="595854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5854"/>
                </a:solidFill>
                <a:latin typeface="Calibri Light"/>
              </a:rPr>
              <a:t>Zonele de studiu nu sunt toate la un loc, ceea ce reprezinta o provocare pentru productia economica de biomasa </a:t>
            </a:r>
            <a:endParaRPr b="0" lang="en-US" sz="24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8bd0d"/>
                </a:solidFill>
                <a:latin typeface="Calibri Light"/>
              </a:rPr>
              <a:t>Evaluarea potentialului agronomic al lantului de valorificare energetica a biomasei a bioenergiei in zonele alese pentru studii de caz (1)</a:t>
            </a:r>
            <a:endParaRPr b="0" lang="en-US" sz="2400" spc="-1" strike="noStrike">
              <a:solidFill>
                <a:srgbClr val="88bd0d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Italia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22,000 ha in zona  </a:t>
            </a:r>
            <a:r>
              <a:rPr b="1" lang="en-GB" sz="2000" spc="-1" strike="noStrike">
                <a:solidFill>
                  <a:srgbClr val="595854"/>
                </a:solidFill>
                <a:latin typeface="Calibri Light"/>
              </a:rPr>
              <a:t>Sulcis d</a:t>
            </a: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in Sardinia 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Zone exploatate industrial, nicio masura de restaurare nu a fost implementata pana acum (poluare industriale)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Arundo Donax (trestia uriasa) – materie prima pentru productia de bioetanol de generatia a doua 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854"/>
                </a:solidFill>
                <a:latin typeface="Calibri Light"/>
              </a:rPr>
              <a:t>Ucraina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854"/>
                </a:solidFill>
                <a:latin typeface="Calibri Light"/>
              </a:rPr>
              <a:t>4 mil ha lasate parloaga. 10% din acestea (400000 ha) pot fi utilizate ca pentru producerea de biocombustibili avansati din salcie, iar restul pot fi folosite pentru productia de biocombustibili  si biogaz.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  <a:p>
            <a:pPr marL="325800" indent="-325800">
              <a:spcBef>
                <a:spcPts val="499"/>
              </a:spcBef>
              <a:buClr>
                <a:srgbClr val="595854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854"/>
                </a:solidFill>
                <a:latin typeface="Calibri Light"/>
              </a:rPr>
              <a:t>Zona aleasa pt studiu de caz  (2000 ha), este situata in regiunea Kiev</a:t>
            </a:r>
            <a:endParaRPr b="0" lang="en-US" sz="2000" spc="-1" strike="noStrike">
              <a:solidFill>
                <a:srgbClr val="595854"/>
              </a:solidFill>
              <a:latin typeface="Calibri Ligh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8bd0d"/>
                </a:solidFill>
                <a:latin typeface="Calibri Light"/>
              </a:rPr>
              <a:t>Evaluarea potentialului agronomic al lantului de valorificare energetica a biomasei a bioenergiei in zonele alese pentru studii de caz (2)</a:t>
            </a:r>
            <a:endParaRPr b="0" lang="en-US" sz="2400" spc="-1" strike="noStrike">
              <a:solidFill>
                <a:srgbClr val="88bd0d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:\_FIB\Projekte\4_ForBio\Meetings\2016-01-Kickoff\Maps&amp;Charts\riesel_CB.jpg"/>
          <p:cNvPicPr/>
          <p:nvPr/>
        </p:nvPicPr>
        <p:blipFill>
          <a:blip r:embed="rId1">
            <a:lum bright="14000"/>
          </a:blip>
          <a:srcRect l="4575" t="28769" r="0" b="1719"/>
          <a:stretch/>
        </p:blipFill>
        <p:spPr>
          <a:xfrm>
            <a:off x="324000" y="536400"/>
            <a:ext cx="8712000" cy="565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rcRect l="0" t="1490" r="0" b="18818"/>
          <a:stretch/>
        </p:blipFill>
        <p:spPr>
          <a:xfrm>
            <a:off x="5003640" y="3429000"/>
            <a:ext cx="3708720" cy="1962000"/>
          </a:xfrm>
          <a:prstGeom prst="rect">
            <a:avLst/>
          </a:prstGeom>
          <a:ln w="0">
            <a:noFill/>
          </a:ln>
        </p:spPr>
      </p:pic>
      <p:sp>
        <p:nvSpPr>
          <p:cNvPr id="146" name="Rechteck 11"/>
          <p:cNvSpPr/>
          <p:nvPr/>
        </p:nvSpPr>
        <p:spPr>
          <a:xfrm>
            <a:off x="2879640" y="1628640"/>
            <a:ext cx="6300720" cy="1313640"/>
          </a:xfrm>
          <a:prstGeom prst="rect">
            <a:avLst/>
          </a:prstGeom>
          <a:solidFill>
            <a:srgbClr val="f8f8f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Studiu de caz in Germania - Partea I</a:t>
            </a:r>
            <a:endParaRPr b="0" lang="en-US" sz="2000" spc="-1" strike="noStrike">
              <a:solidFill>
                <a:srgbClr val="59585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Regiunea metropolitana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</a:rPr>
              <a:t>Berlin &amp; Brandenburg</a:t>
            </a:r>
            <a:endParaRPr b="0" lang="en-US" sz="2000" spc="-1" strike="noStrike">
              <a:solidFill>
                <a:srgbClr val="59585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85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Campuri de irigare si filtrare scoase din uz</a:t>
            </a:r>
            <a:endParaRPr b="0" lang="en-US" sz="2000" spc="-1" strike="noStrike">
              <a:solidFill>
                <a:srgbClr val="59585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2286000" y="-857160"/>
            <a:ext cx="1371600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13:59:17Z</dcterms:created>
  <dc:creator>User</dc:creator>
  <dc:description/>
  <dc:language>en-US</dc:language>
  <cp:lastModifiedBy>Nicoleta</cp:lastModifiedBy>
  <dcterms:modified xsi:type="dcterms:W3CDTF">2017-06-16T11:01:56Z</dcterms:modified>
  <cp:revision>37</cp:revision>
  <dc:subject/>
  <dc:title>Title</dc:title>
</cp:coreProperties>
</file>